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E7F-26C1-4F9D-A7F8-3D3A8948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065-B579-4D95-ACBE-A5446F43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16A-ED62-4BB3-93EE-42079F17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32B-6C31-419F-A7DD-D4234401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300-D3FD-46F9-917F-5B610AAE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6C5-C8B6-4A18-8A64-4D9C464A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ABD-9F71-4A57-B9EB-37EB8D7A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F86-6874-4FAF-9727-0AAE6F36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DB1-7E03-46B0-B99A-8D7F8E25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290-5706-4558-ACFD-35CB8821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9A8-ECED-46E2-97AC-0C6F0939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D9C-F1BA-4F29-9423-0C6E0B5C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4D28-3E39-4766-BC70-3401632CD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587160" y="4747680"/>
            <a:ext cx="9835920" cy="2163240"/>
            <a:chOff x="-587160" y="4747680"/>
            <a:chExt cx="9835920" cy="2163240"/>
          </a:xfrm>
        </p:grpSpPr>
        <p:sp>
          <p:nvSpPr>
            <p:cNvPr id="42" name=""/>
            <p:cNvSpPr/>
            <p:nvPr/>
          </p:nvSpPr>
          <p:spPr>
            <a:xfrm rot="208800">
              <a:off x="-533160" y="4876920"/>
              <a:ext cx="4318200" cy="1904760"/>
            </a:xfrm>
            <a:custGeom>
              <a:avLst/>
              <a:gdLst/>
              <a:ahLst/>
              <a:rect l="l" t="t" r="r" b="b"/>
              <a:pathLst>
                <a:path w="2720" h="656">
                  <a:moveTo>
                    <a:pt x="328" y="488"/>
                  </a:moveTo>
                  <a:cubicBezTo>
                    <a:pt x="324" y="372"/>
                    <a:pt x="320" y="256"/>
                    <a:pt x="328" y="248"/>
                  </a:cubicBezTo>
                  <a:cubicBezTo>
                    <a:pt x="336" y="240"/>
                    <a:pt x="360" y="448"/>
                    <a:pt x="376" y="440"/>
                  </a:cubicBezTo>
                  <a:cubicBezTo>
                    <a:pt x="392" y="432"/>
                    <a:pt x="416" y="192"/>
                    <a:pt x="424" y="200"/>
                  </a:cubicBezTo>
                  <a:cubicBezTo>
                    <a:pt x="432" y="208"/>
                    <a:pt x="408" y="456"/>
                    <a:pt x="424" y="488"/>
                  </a:cubicBezTo>
                  <a:cubicBezTo>
                    <a:pt x="440" y="520"/>
                    <a:pt x="496" y="400"/>
                    <a:pt x="520" y="392"/>
                  </a:cubicBezTo>
                  <a:cubicBezTo>
                    <a:pt x="544" y="384"/>
                    <a:pt x="552" y="472"/>
                    <a:pt x="568" y="440"/>
                  </a:cubicBezTo>
                  <a:cubicBezTo>
                    <a:pt x="584" y="408"/>
                    <a:pt x="592" y="192"/>
                    <a:pt x="616" y="200"/>
                  </a:cubicBezTo>
                  <a:cubicBezTo>
                    <a:pt x="640" y="208"/>
                    <a:pt x="672" y="488"/>
                    <a:pt x="712" y="488"/>
                  </a:cubicBezTo>
                  <a:cubicBezTo>
                    <a:pt x="752" y="488"/>
                    <a:pt x="824" y="208"/>
                    <a:pt x="856" y="200"/>
                  </a:cubicBezTo>
                  <a:cubicBezTo>
                    <a:pt x="888" y="192"/>
                    <a:pt x="888" y="432"/>
                    <a:pt x="904" y="440"/>
                  </a:cubicBezTo>
                  <a:cubicBezTo>
                    <a:pt x="920" y="448"/>
                    <a:pt x="944" y="256"/>
                    <a:pt x="952" y="248"/>
                  </a:cubicBezTo>
                  <a:cubicBezTo>
                    <a:pt x="960" y="240"/>
                    <a:pt x="936" y="432"/>
                    <a:pt x="952" y="392"/>
                  </a:cubicBezTo>
                  <a:cubicBezTo>
                    <a:pt x="968" y="352"/>
                    <a:pt x="1032" y="0"/>
                    <a:pt x="1048" y="8"/>
                  </a:cubicBezTo>
                  <a:cubicBezTo>
                    <a:pt x="1064" y="16"/>
                    <a:pt x="1032" y="392"/>
                    <a:pt x="1048" y="440"/>
                  </a:cubicBezTo>
                  <a:cubicBezTo>
                    <a:pt x="1064" y="488"/>
                    <a:pt x="1128" y="304"/>
                    <a:pt x="1144" y="296"/>
                  </a:cubicBezTo>
                  <a:cubicBezTo>
                    <a:pt x="1160" y="288"/>
                    <a:pt x="1136" y="392"/>
                    <a:pt x="1144" y="392"/>
                  </a:cubicBezTo>
                  <a:cubicBezTo>
                    <a:pt x="1152" y="392"/>
                    <a:pt x="1184" y="288"/>
                    <a:pt x="1192" y="296"/>
                  </a:cubicBezTo>
                  <a:cubicBezTo>
                    <a:pt x="1200" y="304"/>
                    <a:pt x="1168" y="464"/>
                    <a:pt x="1192" y="440"/>
                  </a:cubicBezTo>
                  <a:cubicBezTo>
                    <a:pt x="1216" y="416"/>
                    <a:pt x="1312" y="152"/>
                    <a:pt x="1336" y="152"/>
                  </a:cubicBezTo>
                  <a:cubicBezTo>
                    <a:pt x="1360" y="152"/>
                    <a:pt x="1328" y="464"/>
                    <a:pt x="1336" y="440"/>
                  </a:cubicBezTo>
                  <a:cubicBezTo>
                    <a:pt x="1344" y="416"/>
                    <a:pt x="1376" y="16"/>
                    <a:pt x="1384" y="8"/>
                  </a:cubicBezTo>
                  <a:cubicBezTo>
                    <a:pt x="1392" y="0"/>
                    <a:pt x="1360" y="392"/>
                    <a:pt x="1384" y="392"/>
                  </a:cubicBezTo>
                  <a:cubicBezTo>
                    <a:pt x="1408" y="392"/>
                    <a:pt x="1504" y="8"/>
                    <a:pt x="1528" y="8"/>
                  </a:cubicBezTo>
                  <a:cubicBezTo>
                    <a:pt x="1552" y="8"/>
                    <a:pt x="1512" y="352"/>
                    <a:pt x="1528" y="392"/>
                  </a:cubicBezTo>
                  <a:cubicBezTo>
                    <a:pt x="1544" y="432"/>
                    <a:pt x="1600" y="288"/>
                    <a:pt x="1624" y="248"/>
                  </a:cubicBezTo>
                  <a:cubicBezTo>
                    <a:pt x="1648" y="208"/>
                    <a:pt x="1656" y="128"/>
                    <a:pt x="1672" y="152"/>
                  </a:cubicBezTo>
                  <a:cubicBezTo>
                    <a:pt x="1688" y="176"/>
                    <a:pt x="1696" y="400"/>
                    <a:pt x="1720" y="392"/>
                  </a:cubicBezTo>
                  <a:cubicBezTo>
                    <a:pt x="1744" y="384"/>
                    <a:pt x="1800" y="104"/>
                    <a:pt x="1816" y="104"/>
                  </a:cubicBezTo>
                  <a:cubicBezTo>
                    <a:pt x="1832" y="104"/>
                    <a:pt x="1792" y="384"/>
                    <a:pt x="1816" y="392"/>
                  </a:cubicBezTo>
                  <a:cubicBezTo>
                    <a:pt x="1840" y="400"/>
                    <a:pt x="1936" y="152"/>
                    <a:pt x="1960" y="152"/>
                  </a:cubicBezTo>
                  <a:cubicBezTo>
                    <a:pt x="1984" y="152"/>
                    <a:pt x="1928" y="400"/>
                    <a:pt x="1960" y="392"/>
                  </a:cubicBezTo>
                  <a:cubicBezTo>
                    <a:pt x="1992" y="384"/>
                    <a:pt x="2120" y="96"/>
                    <a:pt x="2152" y="104"/>
                  </a:cubicBezTo>
                  <a:cubicBezTo>
                    <a:pt x="2184" y="112"/>
                    <a:pt x="2128" y="448"/>
                    <a:pt x="2152" y="440"/>
                  </a:cubicBezTo>
                  <a:cubicBezTo>
                    <a:pt x="2176" y="432"/>
                    <a:pt x="2256" y="48"/>
                    <a:pt x="2296" y="56"/>
                  </a:cubicBezTo>
                  <a:cubicBezTo>
                    <a:pt x="2336" y="64"/>
                    <a:pt x="2720" y="392"/>
                    <a:pt x="2392" y="488"/>
                  </a:cubicBezTo>
                  <a:cubicBezTo>
                    <a:pt x="2064" y="584"/>
                    <a:pt x="656" y="656"/>
                    <a:pt x="328" y="632"/>
                  </a:cubicBezTo>
                  <a:cubicBezTo>
                    <a:pt x="0" y="608"/>
                    <a:pt x="352" y="416"/>
                    <a:pt x="424" y="344"/>
                  </a:cubicBezTo>
                </a:path>
              </a:pathLst>
            </a:custGeom>
            <a:solidFill>
              <a:srgbClr val="8ec000"/>
            </a:solidFill>
            <a:ln w="9360">
              <a:solidFill>
                <a:srgbClr val="85b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2613240" y="4747680"/>
              <a:ext cx="6635520" cy="2162880"/>
              <a:chOff x="2613240" y="4747680"/>
              <a:chExt cx="6635520" cy="2162880"/>
            </a:xfrm>
          </p:grpSpPr>
          <p:sp>
            <p:nvSpPr>
              <p:cNvPr id="44" name=""/>
              <p:cNvSpPr/>
              <p:nvPr/>
            </p:nvSpPr>
            <p:spPr>
              <a:xfrm rot="208800">
                <a:off x="2666880" y="4876920"/>
                <a:ext cx="4318200" cy="1904400"/>
              </a:xfrm>
              <a:custGeom>
                <a:avLst/>
                <a:gdLst/>
                <a:ahLst/>
                <a:rect l="l" t="t" r="r" b="b"/>
                <a:pathLst>
                  <a:path w="2720" h="656">
                    <a:moveTo>
                      <a:pt x="328" y="488"/>
                    </a:moveTo>
                    <a:cubicBezTo>
                      <a:pt x="324" y="372"/>
                      <a:pt x="320" y="256"/>
                      <a:pt x="328" y="248"/>
                    </a:cubicBezTo>
                    <a:cubicBezTo>
                      <a:pt x="336" y="240"/>
                      <a:pt x="360" y="448"/>
                      <a:pt x="376" y="440"/>
                    </a:cubicBezTo>
                    <a:cubicBezTo>
                      <a:pt x="392" y="432"/>
                      <a:pt x="416" y="192"/>
                      <a:pt x="424" y="200"/>
                    </a:cubicBezTo>
                    <a:cubicBezTo>
                      <a:pt x="432" y="208"/>
                      <a:pt x="408" y="456"/>
                      <a:pt x="424" y="488"/>
                    </a:cubicBezTo>
                    <a:cubicBezTo>
                      <a:pt x="440" y="520"/>
                      <a:pt x="496" y="400"/>
                      <a:pt x="520" y="392"/>
                    </a:cubicBezTo>
                    <a:cubicBezTo>
                      <a:pt x="544" y="384"/>
                      <a:pt x="552" y="472"/>
                      <a:pt x="568" y="440"/>
                    </a:cubicBezTo>
                    <a:cubicBezTo>
                      <a:pt x="584" y="408"/>
                      <a:pt x="592" y="192"/>
                      <a:pt x="616" y="200"/>
                    </a:cubicBezTo>
                    <a:cubicBezTo>
                      <a:pt x="640" y="208"/>
                      <a:pt x="672" y="488"/>
                      <a:pt x="712" y="488"/>
                    </a:cubicBezTo>
                    <a:cubicBezTo>
                      <a:pt x="752" y="488"/>
                      <a:pt x="824" y="208"/>
                      <a:pt x="856" y="200"/>
                    </a:cubicBezTo>
                    <a:cubicBezTo>
                      <a:pt x="888" y="192"/>
                      <a:pt x="888" y="432"/>
                      <a:pt x="904" y="440"/>
                    </a:cubicBezTo>
                    <a:cubicBezTo>
                      <a:pt x="920" y="448"/>
                      <a:pt x="944" y="256"/>
                      <a:pt x="952" y="248"/>
                    </a:cubicBezTo>
                    <a:cubicBezTo>
                      <a:pt x="960" y="240"/>
                      <a:pt x="936" y="432"/>
                      <a:pt x="952" y="392"/>
                    </a:cubicBezTo>
                    <a:cubicBezTo>
                      <a:pt x="968" y="352"/>
                      <a:pt x="1032" y="0"/>
                      <a:pt x="1048" y="8"/>
                    </a:cubicBezTo>
                    <a:cubicBezTo>
                      <a:pt x="1064" y="16"/>
                      <a:pt x="1032" y="392"/>
                      <a:pt x="1048" y="440"/>
                    </a:cubicBezTo>
                    <a:cubicBezTo>
                      <a:pt x="1064" y="488"/>
                      <a:pt x="1128" y="304"/>
                      <a:pt x="1144" y="296"/>
                    </a:cubicBezTo>
                    <a:cubicBezTo>
                      <a:pt x="1160" y="288"/>
                      <a:pt x="1136" y="392"/>
                      <a:pt x="1144" y="392"/>
                    </a:cubicBezTo>
                    <a:cubicBezTo>
                      <a:pt x="1152" y="392"/>
                      <a:pt x="1184" y="288"/>
                      <a:pt x="1192" y="296"/>
                    </a:cubicBezTo>
                    <a:cubicBezTo>
                      <a:pt x="1200" y="304"/>
                      <a:pt x="1168" y="464"/>
                      <a:pt x="1192" y="440"/>
                    </a:cubicBezTo>
                    <a:cubicBezTo>
                      <a:pt x="1216" y="416"/>
                      <a:pt x="1312" y="152"/>
                      <a:pt x="1336" y="152"/>
                    </a:cubicBezTo>
                    <a:cubicBezTo>
                      <a:pt x="1360" y="152"/>
                      <a:pt x="1328" y="464"/>
                      <a:pt x="1336" y="440"/>
                    </a:cubicBezTo>
                    <a:cubicBezTo>
                      <a:pt x="1344" y="416"/>
                      <a:pt x="1376" y="16"/>
                      <a:pt x="1384" y="8"/>
                    </a:cubicBezTo>
                    <a:cubicBezTo>
                      <a:pt x="1392" y="0"/>
                      <a:pt x="1360" y="392"/>
                      <a:pt x="1384" y="392"/>
                    </a:cubicBezTo>
                    <a:cubicBezTo>
                      <a:pt x="1408" y="392"/>
                      <a:pt x="1504" y="8"/>
                      <a:pt x="1528" y="8"/>
                    </a:cubicBezTo>
                    <a:cubicBezTo>
                      <a:pt x="1552" y="8"/>
                      <a:pt x="1512" y="352"/>
                      <a:pt x="1528" y="392"/>
                    </a:cubicBezTo>
                    <a:cubicBezTo>
                      <a:pt x="1544" y="432"/>
                      <a:pt x="1600" y="288"/>
                      <a:pt x="1624" y="248"/>
                    </a:cubicBezTo>
                    <a:cubicBezTo>
                      <a:pt x="1648" y="208"/>
                      <a:pt x="1656" y="128"/>
                      <a:pt x="1672" y="152"/>
                    </a:cubicBezTo>
                    <a:cubicBezTo>
                      <a:pt x="1688" y="176"/>
                      <a:pt x="1696" y="400"/>
                      <a:pt x="1720" y="392"/>
                    </a:cubicBezTo>
                    <a:cubicBezTo>
                      <a:pt x="1744" y="384"/>
                      <a:pt x="1800" y="104"/>
                      <a:pt x="1816" y="104"/>
                    </a:cubicBezTo>
                    <a:cubicBezTo>
                      <a:pt x="1832" y="104"/>
                      <a:pt x="1792" y="384"/>
                      <a:pt x="1816" y="392"/>
                    </a:cubicBezTo>
                    <a:cubicBezTo>
                      <a:pt x="1840" y="400"/>
                      <a:pt x="1936" y="152"/>
                      <a:pt x="1960" y="152"/>
                    </a:cubicBezTo>
                    <a:cubicBezTo>
                      <a:pt x="1984" y="152"/>
                      <a:pt x="1928" y="400"/>
                      <a:pt x="1960" y="392"/>
                    </a:cubicBezTo>
                    <a:cubicBezTo>
                      <a:pt x="1992" y="384"/>
                      <a:pt x="2120" y="96"/>
                      <a:pt x="2152" y="104"/>
                    </a:cubicBezTo>
                    <a:cubicBezTo>
                      <a:pt x="2184" y="112"/>
                      <a:pt x="2128" y="448"/>
                      <a:pt x="2152" y="440"/>
                    </a:cubicBezTo>
                    <a:cubicBezTo>
                      <a:pt x="2176" y="432"/>
                      <a:pt x="2256" y="48"/>
                      <a:pt x="2296" y="56"/>
                    </a:cubicBezTo>
                    <a:cubicBezTo>
                      <a:pt x="2336" y="64"/>
                      <a:pt x="2720" y="392"/>
                      <a:pt x="2392" y="488"/>
                    </a:cubicBezTo>
                    <a:cubicBezTo>
                      <a:pt x="2064" y="584"/>
                      <a:pt x="656" y="656"/>
                      <a:pt x="328" y="632"/>
                    </a:cubicBezTo>
                    <a:cubicBezTo>
                      <a:pt x="0" y="608"/>
                      <a:pt x="352" y="416"/>
                      <a:pt x="424" y="344"/>
                    </a:cubicBezTo>
                  </a:path>
                </a:pathLst>
              </a:custGeom>
              <a:solidFill>
                <a:srgbClr val="8ec000"/>
              </a:solidFill>
              <a:ln w="9360">
                <a:solidFill>
                  <a:srgbClr val="85b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08800">
                <a:off x="4876920" y="4876920"/>
                <a:ext cx="4317840" cy="1904400"/>
              </a:xfrm>
              <a:custGeom>
                <a:avLst/>
                <a:gdLst/>
                <a:ahLst/>
                <a:rect l="l" t="t" r="r" b="b"/>
                <a:pathLst>
                  <a:path w="2720" h="656">
                    <a:moveTo>
                      <a:pt x="328" y="488"/>
                    </a:moveTo>
                    <a:cubicBezTo>
                      <a:pt x="324" y="372"/>
                      <a:pt x="320" y="256"/>
                      <a:pt x="328" y="248"/>
                    </a:cubicBezTo>
                    <a:cubicBezTo>
                      <a:pt x="336" y="240"/>
                      <a:pt x="360" y="448"/>
                      <a:pt x="376" y="440"/>
                    </a:cubicBezTo>
                    <a:cubicBezTo>
                      <a:pt x="392" y="432"/>
                      <a:pt x="416" y="192"/>
                      <a:pt x="424" y="200"/>
                    </a:cubicBezTo>
                    <a:cubicBezTo>
                      <a:pt x="432" y="208"/>
                      <a:pt x="408" y="456"/>
                      <a:pt x="424" y="488"/>
                    </a:cubicBezTo>
                    <a:cubicBezTo>
                      <a:pt x="440" y="520"/>
                      <a:pt x="496" y="400"/>
                      <a:pt x="520" y="392"/>
                    </a:cubicBezTo>
                    <a:cubicBezTo>
                      <a:pt x="544" y="384"/>
                      <a:pt x="552" y="472"/>
                      <a:pt x="568" y="440"/>
                    </a:cubicBezTo>
                    <a:cubicBezTo>
                      <a:pt x="584" y="408"/>
                      <a:pt x="592" y="192"/>
                      <a:pt x="616" y="200"/>
                    </a:cubicBezTo>
                    <a:cubicBezTo>
                      <a:pt x="640" y="208"/>
                      <a:pt x="672" y="488"/>
                      <a:pt x="712" y="488"/>
                    </a:cubicBezTo>
                    <a:cubicBezTo>
                      <a:pt x="752" y="488"/>
                      <a:pt x="824" y="208"/>
                      <a:pt x="856" y="200"/>
                    </a:cubicBezTo>
                    <a:cubicBezTo>
                      <a:pt x="888" y="192"/>
                      <a:pt x="888" y="432"/>
                      <a:pt x="904" y="440"/>
                    </a:cubicBezTo>
                    <a:cubicBezTo>
                      <a:pt x="920" y="448"/>
                      <a:pt x="944" y="256"/>
                      <a:pt x="952" y="248"/>
                    </a:cubicBezTo>
                    <a:cubicBezTo>
                      <a:pt x="960" y="240"/>
                      <a:pt x="936" y="432"/>
                      <a:pt x="952" y="392"/>
                    </a:cubicBezTo>
                    <a:cubicBezTo>
                      <a:pt x="968" y="352"/>
                      <a:pt x="1032" y="0"/>
                      <a:pt x="1048" y="8"/>
                    </a:cubicBezTo>
                    <a:cubicBezTo>
                      <a:pt x="1064" y="16"/>
                      <a:pt x="1032" y="392"/>
                      <a:pt x="1048" y="440"/>
                    </a:cubicBezTo>
                    <a:cubicBezTo>
                      <a:pt x="1064" y="488"/>
                      <a:pt x="1128" y="304"/>
                      <a:pt x="1144" y="296"/>
                    </a:cubicBezTo>
                    <a:cubicBezTo>
                      <a:pt x="1160" y="288"/>
                      <a:pt x="1136" y="392"/>
                      <a:pt x="1144" y="392"/>
                    </a:cubicBezTo>
                    <a:cubicBezTo>
                      <a:pt x="1152" y="392"/>
                      <a:pt x="1184" y="288"/>
                      <a:pt x="1192" y="296"/>
                    </a:cubicBezTo>
                    <a:cubicBezTo>
                      <a:pt x="1200" y="304"/>
                      <a:pt x="1168" y="464"/>
                      <a:pt x="1192" y="440"/>
                    </a:cubicBezTo>
                    <a:cubicBezTo>
                      <a:pt x="1216" y="416"/>
                      <a:pt x="1312" y="152"/>
                      <a:pt x="1336" y="152"/>
                    </a:cubicBezTo>
                    <a:cubicBezTo>
                      <a:pt x="1360" y="152"/>
                      <a:pt x="1328" y="464"/>
                      <a:pt x="1336" y="440"/>
                    </a:cubicBezTo>
                    <a:cubicBezTo>
                      <a:pt x="1344" y="416"/>
                      <a:pt x="1376" y="16"/>
                      <a:pt x="1384" y="8"/>
                    </a:cubicBezTo>
                    <a:cubicBezTo>
                      <a:pt x="1392" y="0"/>
                      <a:pt x="1360" y="392"/>
                      <a:pt x="1384" y="392"/>
                    </a:cubicBezTo>
                    <a:cubicBezTo>
                      <a:pt x="1408" y="392"/>
                      <a:pt x="1504" y="8"/>
                      <a:pt x="1528" y="8"/>
                    </a:cubicBezTo>
                    <a:cubicBezTo>
                      <a:pt x="1552" y="8"/>
                      <a:pt x="1512" y="352"/>
                      <a:pt x="1528" y="392"/>
                    </a:cubicBezTo>
                    <a:cubicBezTo>
                      <a:pt x="1544" y="432"/>
                      <a:pt x="1600" y="288"/>
                      <a:pt x="1624" y="248"/>
                    </a:cubicBezTo>
                    <a:cubicBezTo>
                      <a:pt x="1648" y="208"/>
                      <a:pt x="1656" y="128"/>
                      <a:pt x="1672" y="152"/>
                    </a:cubicBezTo>
                    <a:cubicBezTo>
                      <a:pt x="1688" y="176"/>
                      <a:pt x="1696" y="400"/>
                      <a:pt x="1720" y="392"/>
                    </a:cubicBezTo>
                    <a:cubicBezTo>
                      <a:pt x="1744" y="384"/>
                      <a:pt x="1800" y="104"/>
                      <a:pt x="1816" y="104"/>
                    </a:cubicBezTo>
                    <a:cubicBezTo>
                      <a:pt x="1832" y="104"/>
                      <a:pt x="1792" y="384"/>
                      <a:pt x="1816" y="392"/>
                    </a:cubicBezTo>
                    <a:cubicBezTo>
                      <a:pt x="1840" y="400"/>
                      <a:pt x="1936" y="152"/>
                      <a:pt x="1960" y="152"/>
                    </a:cubicBezTo>
                    <a:cubicBezTo>
                      <a:pt x="1984" y="152"/>
                      <a:pt x="1928" y="400"/>
                      <a:pt x="1960" y="392"/>
                    </a:cubicBezTo>
                    <a:cubicBezTo>
                      <a:pt x="1992" y="384"/>
                      <a:pt x="2120" y="96"/>
                      <a:pt x="2152" y="104"/>
                    </a:cubicBezTo>
                    <a:cubicBezTo>
                      <a:pt x="2184" y="112"/>
                      <a:pt x="2128" y="448"/>
                      <a:pt x="2152" y="440"/>
                    </a:cubicBezTo>
                    <a:cubicBezTo>
                      <a:pt x="2176" y="432"/>
                      <a:pt x="2256" y="48"/>
                      <a:pt x="2296" y="56"/>
                    </a:cubicBezTo>
                    <a:cubicBezTo>
                      <a:pt x="2336" y="64"/>
                      <a:pt x="2720" y="392"/>
                      <a:pt x="2392" y="488"/>
                    </a:cubicBezTo>
                    <a:cubicBezTo>
                      <a:pt x="2064" y="584"/>
                      <a:pt x="656" y="656"/>
                      <a:pt x="328" y="632"/>
                    </a:cubicBezTo>
                    <a:cubicBezTo>
                      <a:pt x="0" y="608"/>
                      <a:pt x="352" y="416"/>
                      <a:pt x="424" y="344"/>
                    </a:cubicBezTo>
                  </a:path>
                </a:pathLst>
              </a:custGeom>
              <a:solidFill>
                <a:srgbClr val="8ec000"/>
              </a:solidFill>
              <a:ln w="9360">
                <a:solidFill>
                  <a:srgbClr val="85b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" name=""/>
          <p:cNvGrpSpPr/>
          <p:nvPr/>
        </p:nvGrpSpPr>
        <p:grpSpPr>
          <a:xfrm>
            <a:off x="3108960" y="175680"/>
            <a:ext cx="2435040" cy="2105640"/>
            <a:chOff x="3108960" y="175680"/>
            <a:chExt cx="2435040" cy="2105640"/>
          </a:xfrm>
        </p:grpSpPr>
        <p:sp>
          <p:nvSpPr>
            <p:cNvPr id="47" name=""/>
            <p:cNvSpPr/>
            <p:nvPr/>
          </p:nvSpPr>
          <p:spPr>
            <a:xfrm rot="4949400">
              <a:off x="3353760" y="1674720"/>
              <a:ext cx="1138320" cy="74520"/>
            </a:xfrm>
            <a:prstGeom prst="rect">
              <a:avLst/>
            </a:prstGeom>
            <a:solidFill>
              <a:srgbClr val="ffea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5955600">
              <a:off x="2667960" y="1369800"/>
              <a:ext cx="1138320" cy="74520"/>
            </a:xfrm>
            <a:prstGeom prst="rect">
              <a:avLst/>
            </a:prstGeom>
            <a:solidFill>
              <a:srgbClr val="ffea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253000">
              <a:off x="2972880" y="1598400"/>
              <a:ext cx="1138320" cy="74520"/>
            </a:xfrm>
            <a:prstGeom prst="rect">
              <a:avLst/>
            </a:prstGeom>
            <a:solidFill>
              <a:srgbClr val="ffea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4330800">
              <a:off x="3735000" y="1598040"/>
              <a:ext cx="1138320" cy="74880"/>
            </a:xfrm>
            <a:prstGeom prst="rect">
              <a:avLst/>
            </a:prstGeom>
            <a:solidFill>
              <a:srgbClr val="ffea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003400">
              <a:off x="4266720" y="1066320"/>
              <a:ext cx="1138320" cy="74880"/>
            </a:xfrm>
            <a:prstGeom prst="rect">
              <a:avLst/>
            </a:prstGeom>
            <a:solidFill>
              <a:srgbClr val="ffea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3250800">
              <a:off x="4039560" y="1370160"/>
              <a:ext cx="1138320" cy="74520"/>
            </a:xfrm>
            <a:prstGeom prst="rect">
              <a:avLst/>
            </a:prstGeom>
            <a:solidFill>
              <a:srgbClr val="ffea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1278400">
              <a:off x="4343040" y="228240"/>
              <a:ext cx="1138320" cy="74520"/>
            </a:xfrm>
            <a:prstGeom prst="rect">
              <a:avLst/>
            </a:prstGeom>
            <a:solidFill>
              <a:srgbClr val="ffea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07400">
              <a:off x="4419360" y="685800"/>
              <a:ext cx="1137960" cy="74520"/>
            </a:xfrm>
            <a:prstGeom prst="rect">
              <a:avLst/>
            </a:prstGeom>
            <a:solidFill>
              <a:srgbClr val="ffea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0400" y="0"/>
            <a:ext cx="1290600" cy="1204920"/>
          </a:xfrm>
          <a:prstGeom prst="ellipse">
            <a:avLst/>
          </a:prstGeom>
          <a:solidFill>
            <a:srgbClr val="ffea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433320" y="282240"/>
            <a:ext cx="825840" cy="677880"/>
            <a:chOff x="3433320" y="282240"/>
            <a:chExt cx="825840" cy="677880"/>
          </a:xfrm>
        </p:grpSpPr>
        <p:grpSp>
          <p:nvGrpSpPr>
            <p:cNvPr id="57" name=""/>
            <p:cNvGrpSpPr/>
            <p:nvPr/>
          </p:nvGrpSpPr>
          <p:grpSpPr>
            <a:xfrm>
              <a:off x="3433320" y="282240"/>
              <a:ext cx="825840" cy="200520"/>
              <a:chOff x="3433320" y="282240"/>
              <a:chExt cx="825840" cy="200520"/>
            </a:xfrm>
          </p:grpSpPr>
          <p:sp>
            <p:nvSpPr>
              <p:cNvPr id="58" name=""/>
              <p:cNvSpPr/>
              <p:nvPr/>
            </p:nvSpPr>
            <p:spPr>
              <a:xfrm>
                <a:off x="3535200" y="289080"/>
                <a:ext cx="190800" cy="19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5146800">
                <a:off x="3582000" y="241920"/>
                <a:ext cx="96840" cy="19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050" y="1884"/>
                      <a:pt x="10499" y="5080"/>
                      <a:pt x="10499" y="10800"/>
                    </a:cubicBezTo>
                    <a:cubicBezTo>
                      <a:pt x="10499" y="16520"/>
                      <a:pt x="16050" y="1971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45e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581280" y="380880"/>
                <a:ext cx="95400" cy="96840"/>
              </a:xfrm>
              <a:prstGeom prst="ellipse">
                <a:avLst/>
              </a:prstGeom>
              <a:solidFill>
                <a:srgbClr val="99cc00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630600" y="433440"/>
                <a:ext cx="4752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487680" y="289080"/>
                <a:ext cx="47520" cy="96840"/>
              </a:xfrm>
              <a:custGeom>
                <a:avLst/>
                <a:gdLst/>
                <a:ahLst/>
                <a:rect l="l" t="t" r="r" b="b"/>
                <a:pathLst>
                  <a:path w="96" h="56">
                    <a:moveTo>
                      <a:pt x="96" y="48"/>
                    </a:moveTo>
                    <a:cubicBezTo>
                      <a:pt x="80" y="52"/>
                      <a:pt x="64" y="56"/>
                      <a:pt x="48" y="48"/>
                    </a:cubicBezTo>
                    <a:cubicBezTo>
                      <a:pt x="32" y="40"/>
                      <a:pt x="8" y="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440160" y="338040"/>
                <a:ext cx="95040" cy="55800"/>
              </a:xfrm>
              <a:custGeom>
                <a:avLst/>
                <a:gdLst/>
                <a:ahLst/>
                <a:rect l="l" t="t" r="r" b="b"/>
                <a:pathLst>
                  <a:path w="96" h="56">
                    <a:moveTo>
                      <a:pt x="96" y="48"/>
                    </a:moveTo>
                    <a:cubicBezTo>
                      <a:pt x="80" y="52"/>
                      <a:pt x="64" y="56"/>
                      <a:pt x="48" y="48"/>
                    </a:cubicBezTo>
                    <a:cubicBezTo>
                      <a:pt x="32" y="40"/>
                      <a:pt x="8" y="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9198800">
                <a:off x="3439800" y="38592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96" h="56">
                    <a:moveTo>
                      <a:pt x="96" y="48"/>
                    </a:moveTo>
                    <a:cubicBezTo>
                      <a:pt x="80" y="52"/>
                      <a:pt x="64" y="56"/>
                      <a:pt x="48" y="48"/>
                    </a:cubicBezTo>
                    <a:cubicBezTo>
                      <a:pt x="32" y="40"/>
                      <a:pt x="8" y="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3965400" y="289080"/>
                <a:ext cx="190800" cy="19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453200">
                <a:off x="4011480" y="241920"/>
                <a:ext cx="96840" cy="19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050" y="1884"/>
                      <a:pt x="10499" y="5080"/>
                      <a:pt x="10499" y="10800"/>
                    </a:cubicBezTo>
                    <a:cubicBezTo>
                      <a:pt x="10499" y="16520"/>
                      <a:pt x="16050" y="1971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45e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4013280" y="385920"/>
                <a:ext cx="95040" cy="96840"/>
              </a:xfrm>
              <a:prstGeom prst="ellipse">
                <a:avLst/>
              </a:prstGeom>
              <a:solidFill>
                <a:srgbClr val="99cc00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60800" y="434880"/>
                <a:ext cx="4752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4156200" y="289080"/>
                <a:ext cx="47520" cy="96840"/>
              </a:xfrm>
              <a:custGeom>
                <a:avLst/>
                <a:gdLst/>
                <a:ahLst/>
                <a:rect l="l" t="t" r="r" b="b"/>
                <a:pathLst>
                  <a:path w="96" h="56">
                    <a:moveTo>
                      <a:pt x="96" y="48"/>
                    </a:moveTo>
                    <a:cubicBezTo>
                      <a:pt x="80" y="52"/>
                      <a:pt x="64" y="56"/>
                      <a:pt x="48" y="48"/>
                    </a:cubicBezTo>
                    <a:cubicBezTo>
                      <a:pt x="32" y="40"/>
                      <a:pt x="8" y="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4155480" y="338040"/>
                <a:ext cx="96840" cy="55800"/>
              </a:xfrm>
              <a:custGeom>
                <a:avLst/>
                <a:gdLst/>
                <a:ahLst/>
                <a:rect l="l" t="t" r="r" b="b"/>
                <a:pathLst>
                  <a:path w="96" h="56">
                    <a:moveTo>
                      <a:pt x="96" y="48"/>
                    </a:moveTo>
                    <a:cubicBezTo>
                      <a:pt x="80" y="52"/>
                      <a:pt x="64" y="56"/>
                      <a:pt x="48" y="48"/>
                    </a:cubicBezTo>
                    <a:cubicBezTo>
                      <a:pt x="32" y="40"/>
                      <a:pt x="8" y="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2401200">
                <a:off x="4155480" y="385560"/>
                <a:ext cx="96840" cy="55440"/>
              </a:xfrm>
              <a:custGeom>
                <a:avLst/>
                <a:gdLst/>
                <a:ahLst/>
                <a:rect l="l" t="t" r="r" b="b"/>
                <a:pathLst>
                  <a:path w="96" h="56">
                    <a:moveTo>
                      <a:pt x="96" y="48"/>
                    </a:moveTo>
                    <a:cubicBezTo>
                      <a:pt x="80" y="52"/>
                      <a:pt x="64" y="56"/>
                      <a:pt x="48" y="48"/>
                    </a:cubicBezTo>
                    <a:cubicBezTo>
                      <a:pt x="32" y="40"/>
                      <a:pt x="8" y="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2" name=""/>
            <p:cNvCxnSpPr/>
            <p:nvPr/>
          </p:nvCxnSpPr>
          <p:spPr>
            <a:xfrm flipH="1" rot="16200000">
              <a:off x="3721680" y="544680"/>
              <a:ext cx="176760" cy="457920"/>
            </a:xfrm>
            <a:prstGeom prst="curvedConnector5">
              <a:avLst>
                <a:gd name="adj1" fmla="val 155714"/>
                <a:gd name="adj2" fmla="val 49960"/>
                <a:gd name="adj3" fmla="val 155714"/>
              </a:avLst>
            </a:prstGeom>
            <a:ln w="38160">
              <a:solidFill>
                <a:srgbClr val="ff0000"/>
              </a:solidFill>
              <a:miter/>
            </a:ln>
          </p:spPr>
        </p:cxnSp>
      </p:grpSp>
      <p:sp>
        <p:nvSpPr>
          <p:cNvPr id="73" name=""/>
          <p:cNvSpPr/>
          <p:nvPr/>
        </p:nvSpPr>
        <p:spPr>
          <a:xfrm>
            <a:off x="5410080" y="-76320"/>
            <a:ext cx="2286000" cy="1067040"/>
          </a:xfrm>
          <a:prstGeom prst="cloudCallout">
            <a:avLst>
              <a:gd name="adj1" fmla="val 41458"/>
              <a:gd name="adj2" fmla="val 13393"/>
            </a:avLst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-332640" y="5737320"/>
            <a:ext cx="9783720" cy="1301760"/>
            <a:chOff x="-332640" y="5737320"/>
            <a:chExt cx="9783720" cy="1301760"/>
          </a:xfrm>
        </p:grpSpPr>
        <p:sp>
          <p:nvSpPr>
            <p:cNvPr id="75" name=""/>
            <p:cNvSpPr/>
            <p:nvPr/>
          </p:nvSpPr>
          <p:spPr>
            <a:xfrm rot="208800">
              <a:off x="-304560" y="5867280"/>
              <a:ext cx="4318200" cy="1041480"/>
            </a:xfrm>
            <a:custGeom>
              <a:avLst/>
              <a:gdLst/>
              <a:ahLst/>
              <a:rect l="l" t="t" r="r" b="b"/>
              <a:pathLst>
                <a:path w="2720" h="656">
                  <a:moveTo>
                    <a:pt x="328" y="488"/>
                  </a:moveTo>
                  <a:cubicBezTo>
                    <a:pt x="324" y="372"/>
                    <a:pt x="320" y="256"/>
                    <a:pt x="328" y="248"/>
                  </a:cubicBezTo>
                  <a:cubicBezTo>
                    <a:pt x="336" y="240"/>
                    <a:pt x="360" y="448"/>
                    <a:pt x="376" y="440"/>
                  </a:cubicBezTo>
                  <a:cubicBezTo>
                    <a:pt x="392" y="432"/>
                    <a:pt x="416" y="192"/>
                    <a:pt x="424" y="200"/>
                  </a:cubicBezTo>
                  <a:cubicBezTo>
                    <a:pt x="432" y="208"/>
                    <a:pt x="408" y="456"/>
                    <a:pt x="424" y="488"/>
                  </a:cubicBezTo>
                  <a:cubicBezTo>
                    <a:pt x="440" y="520"/>
                    <a:pt x="496" y="400"/>
                    <a:pt x="520" y="392"/>
                  </a:cubicBezTo>
                  <a:cubicBezTo>
                    <a:pt x="544" y="384"/>
                    <a:pt x="552" y="472"/>
                    <a:pt x="568" y="440"/>
                  </a:cubicBezTo>
                  <a:cubicBezTo>
                    <a:pt x="584" y="408"/>
                    <a:pt x="592" y="192"/>
                    <a:pt x="616" y="200"/>
                  </a:cubicBezTo>
                  <a:cubicBezTo>
                    <a:pt x="640" y="208"/>
                    <a:pt x="672" y="488"/>
                    <a:pt x="712" y="488"/>
                  </a:cubicBezTo>
                  <a:cubicBezTo>
                    <a:pt x="752" y="488"/>
                    <a:pt x="824" y="208"/>
                    <a:pt x="856" y="200"/>
                  </a:cubicBezTo>
                  <a:cubicBezTo>
                    <a:pt x="888" y="192"/>
                    <a:pt x="888" y="432"/>
                    <a:pt x="904" y="440"/>
                  </a:cubicBezTo>
                  <a:cubicBezTo>
                    <a:pt x="920" y="448"/>
                    <a:pt x="944" y="256"/>
                    <a:pt x="952" y="248"/>
                  </a:cubicBezTo>
                  <a:cubicBezTo>
                    <a:pt x="960" y="240"/>
                    <a:pt x="936" y="432"/>
                    <a:pt x="952" y="392"/>
                  </a:cubicBezTo>
                  <a:cubicBezTo>
                    <a:pt x="968" y="352"/>
                    <a:pt x="1032" y="0"/>
                    <a:pt x="1048" y="8"/>
                  </a:cubicBezTo>
                  <a:cubicBezTo>
                    <a:pt x="1064" y="16"/>
                    <a:pt x="1032" y="392"/>
                    <a:pt x="1048" y="440"/>
                  </a:cubicBezTo>
                  <a:cubicBezTo>
                    <a:pt x="1064" y="488"/>
                    <a:pt x="1128" y="304"/>
                    <a:pt x="1144" y="296"/>
                  </a:cubicBezTo>
                  <a:cubicBezTo>
                    <a:pt x="1160" y="288"/>
                    <a:pt x="1136" y="392"/>
                    <a:pt x="1144" y="392"/>
                  </a:cubicBezTo>
                  <a:cubicBezTo>
                    <a:pt x="1152" y="392"/>
                    <a:pt x="1184" y="288"/>
                    <a:pt x="1192" y="296"/>
                  </a:cubicBezTo>
                  <a:cubicBezTo>
                    <a:pt x="1200" y="304"/>
                    <a:pt x="1168" y="464"/>
                    <a:pt x="1192" y="440"/>
                  </a:cubicBezTo>
                  <a:cubicBezTo>
                    <a:pt x="1216" y="416"/>
                    <a:pt x="1312" y="152"/>
                    <a:pt x="1336" y="152"/>
                  </a:cubicBezTo>
                  <a:cubicBezTo>
                    <a:pt x="1360" y="152"/>
                    <a:pt x="1328" y="464"/>
                    <a:pt x="1336" y="440"/>
                  </a:cubicBezTo>
                  <a:cubicBezTo>
                    <a:pt x="1344" y="416"/>
                    <a:pt x="1376" y="16"/>
                    <a:pt x="1384" y="8"/>
                  </a:cubicBezTo>
                  <a:cubicBezTo>
                    <a:pt x="1392" y="0"/>
                    <a:pt x="1360" y="392"/>
                    <a:pt x="1384" y="392"/>
                  </a:cubicBezTo>
                  <a:cubicBezTo>
                    <a:pt x="1408" y="392"/>
                    <a:pt x="1504" y="8"/>
                    <a:pt x="1528" y="8"/>
                  </a:cubicBezTo>
                  <a:cubicBezTo>
                    <a:pt x="1552" y="8"/>
                    <a:pt x="1512" y="352"/>
                    <a:pt x="1528" y="392"/>
                  </a:cubicBezTo>
                  <a:cubicBezTo>
                    <a:pt x="1544" y="432"/>
                    <a:pt x="1600" y="288"/>
                    <a:pt x="1624" y="248"/>
                  </a:cubicBezTo>
                  <a:cubicBezTo>
                    <a:pt x="1648" y="208"/>
                    <a:pt x="1656" y="128"/>
                    <a:pt x="1672" y="152"/>
                  </a:cubicBezTo>
                  <a:cubicBezTo>
                    <a:pt x="1688" y="176"/>
                    <a:pt x="1696" y="400"/>
                    <a:pt x="1720" y="392"/>
                  </a:cubicBezTo>
                  <a:cubicBezTo>
                    <a:pt x="1744" y="384"/>
                    <a:pt x="1800" y="104"/>
                    <a:pt x="1816" y="104"/>
                  </a:cubicBezTo>
                  <a:cubicBezTo>
                    <a:pt x="1832" y="104"/>
                    <a:pt x="1792" y="384"/>
                    <a:pt x="1816" y="392"/>
                  </a:cubicBezTo>
                  <a:cubicBezTo>
                    <a:pt x="1840" y="400"/>
                    <a:pt x="1936" y="152"/>
                    <a:pt x="1960" y="152"/>
                  </a:cubicBezTo>
                  <a:cubicBezTo>
                    <a:pt x="1984" y="152"/>
                    <a:pt x="1928" y="400"/>
                    <a:pt x="1960" y="392"/>
                  </a:cubicBezTo>
                  <a:cubicBezTo>
                    <a:pt x="1992" y="384"/>
                    <a:pt x="2120" y="96"/>
                    <a:pt x="2152" y="104"/>
                  </a:cubicBezTo>
                  <a:cubicBezTo>
                    <a:pt x="2184" y="112"/>
                    <a:pt x="2128" y="448"/>
                    <a:pt x="2152" y="440"/>
                  </a:cubicBezTo>
                  <a:cubicBezTo>
                    <a:pt x="2176" y="432"/>
                    <a:pt x="2256" y="48"/>
                    <a:pt x="2296" y="56"/>
                  </a:cubicBezTo>
                  <a:cubicBezTo>
                    <a:pt x="2336" y="64"/>
                    <a:pt x="2720" y="392"/>
                    <a:pt x="2392" y="488"/>
                  </a:cubicBezTo>
                  <a:cubicBezTo>
                    <a:pt x="2064" y="584"/>
                    <a:pt x="656" y="656"/>
                    <a:pt x="328" y="632"/>
                  </a:cubicBezTo>
                  <a:cubicBezTo>
                    <a:pt x="0" y="608"/>
                    <a:pt x="352" y="416"/>
                    <a:pt x="424" y="344"/>
                  </a:cubicBezTo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867760" y="5737320"/>
              <a:ext cx="6583320" cy="1301760"/>
              <a:chOff x="2867760" y="5737320"/>
              <a:chExt cx="6583320" cy="1301760"/>
            </a:xfrm>
          </p:grpSpPr>
          <p:sp>
            <p:nvSpPr>
              <p:cNvPr id="77" name=""/>
              <p:cNvSpPr/>
              <p:nvPr/>
            </p:nvSpPr>
            <p:spPr>
              <a:xfrm rot="208800">
                <a:off x="2895480" y="5867280"/>
                <a:ext cx="4318200" cy="1041480"/>
              </a:xfrm>
              <a:custGeom>
                <a:avLst/>
                <a:gdLst/>
                <a:ahLst/>
                <a:rect l="l" t="t" r="r" b="b"/>
                <a:pathLst>
                  <a:path w="2720" h="656">
                    <a:moveTo>
                      <a:pt x="328" y="488"/>
                    </a:moveTo>
                    <a:cubicBezTo>
                      <a:pt x="324" y="372"/>
                      <a:pt x="320" y="256"/>
                      <a:pt x="328" y="248"/>
                    </a:cubicBezTo>
                    <a:cubicBezTo>
                      <a:pt x="336" y="240"/>
                      <a:pt x="360" y="448"/>
                      <a:pt x="376" y="440"/>
                    </a:cubicBezTo>
                    <a:cubicBezTo>
                      <a:pt x="392" y="432"/>
                      <a:pt x="416" y="192"/>
                      <a:pt x="424" y="200"/>
                    </a:cubicBezTo>
                    <a:cubicBezTo>
                      <a:pt x="432" y="208"/>
                      <a:pt x="408" y="456"/>
                      <a:pt x="424" y="488"/>
                    </a:cubicBezTo>
                    <a:cubicBezTo>
                      <a:pt x="440" y="520"/>
                      <a:pt x="496" y="400"/>
                      <a:pt x="520" y="392"/>
                    </a:cubicBezTo>
                    <a:cubicBezTo>
                      <a:pt x="544" y="384"/>
                      <a:pt x="552" y="472"/>
                      <a:pt x="568" y="440"/>
                    </a:cubicBezTo>
                    <a:cubicBezTo>
                      <a:pt x="584" y="408"/>
                      <a:pt x="592" y="192"/>
                      <a:pt x="616" y="200"/>
                    </a:cubicBezTo>
                    <a:cubicBezTo>
                      <a:pt x="640" y="208"/>
                      <a:pt x="672" y="488"/>
                      <a:pt x="712" y="488"/>
                    </a:cubicBezTo>
                    <a:cubicBezTo>
                      <a:pt x="752" y="488"/>
                      <a:pt x="824" y="208"/>
                      <a:pt x="856" y="200"/>
                    </a:cubicBezTo>
                    <a:cubicBezTo>
                      <a:pt x="888" y="192"/>
                      <a:pt x="888" y="432"/>
                      <a:pt x="904" y="440"/>
                    </a:cubicBezTo>
                    <a:cubicBezTo>
                      <a:pt x="920" y="448"/>
                      <a:pt x="944" y="256"/>
                      <a:pt x="952" y="248"/>
                    </a:cubicBezTo>
                    <a:cubicBezTo>
                      <a:pt x="960" y="240"/>
                      <a:pt x="936" y="432"/>
                      <a:pt x="952" y="392"/>
                    </a:cubicBezTo>
                    <a:cubicBezTo>
                      <a:pt x="968" y="352"/>
                      <a:pt x="1032" y="0"/>
                      <a:pt x="1048" y="8"/>
                    </a:cubicBezTo>
                    <a:cubicBezTo>
                      <a:pt x="1064" y="16"/>
                      <a:pt x="1032" y="392"/>
                      <a:pt x="1048" y="440"/>
                    </a:cubicBezTo>
                    <a:cubicBezTo>
                      <a:pt x="1064" y="488"/>
                      <a:pt x="1128" y="304"/>
                      <a:pt x="1144" y="296"/>
                    </a:cubicBezTo>
                    <a:cubicBezTo>
                      <a:pt x="1160" y="288"/>
                      <a:pt x="1136" y="392"/>
                      <a:pt x="1144" y="392"/>
                    </a:cubicBezTo>
                    <a:cubicBezTo>
                      <a:pt x="1152" y="392"/>
                      <a:pt x="1184" y="288"/>
                      <a:pt x="1192" y="296"/>
                    </a:cubicBezTo>
                    <a:cubicBezTo>
                      <a:pt x="1200" y="304"/>
                      <a:pt x="1168" y="464"/>
                      <a:pt x="1192" y="440"/>
                    </a:cubicBezTo>
                    <a:cubicBezTo>
                      <a:pt x="1216" y="416"/>
                      <a:pt x="1312" y="152"/>
                      <a:pt x="1336" y="152"/>
                    </a:cubicBezTo>
                    <a:cubicBezTo>
                      <a:pt x="1360" y="152"/>
                      <a:pt x="1328" y="464"/>
                      <a:pt x="1336" y="440"/>
                    </a:cubicBezTo>
                    <a:cubicBezTo>
                      <a:pt x="1344" y="416"/>
                      <a:pt x="1376" y="16"/>
                      <a:pt x="1384" y="8"/>
                    </a:cubicBezTo>
                    <a:cubicBezTo>
                      <a:pt x="1392" y="0"/>
                      <a:pt x="1360" y="392"/>
                      <a:pt x="1384" y="392"/>
                    </a:cubicBezTo>
                    <a:cubicBezTo>
                      <a:pt x="1408" y="392"/>
                      <a:pt x="1504" y="8"/>
                      <a:pt x="1528" y="8"/>
                    </a:cubicBezTo>
                    <a:cubicBezTo>
                      <a:pt x="1552" y="8"/>
                      <a:pt x="1512" y="352"/>
                      <a:pt x="1528" y="392"/>
                    </a:cubicBezTo>
                    <a:cubicBezTo>
                      <a:pt x="1544" y="432"/>
                      <a:pt x="1600" y="288"/>
                      <a:pt x="1624" y="248"/>
                    </a:cubicBezTo>
                    <a:cubicBezTo>
                      <a:pt x="1648" y="208"/>
                      <a:pt x="1656" y="128"/>
                      <a:pt x="1672" y="152"/>
                    </a:cubicBezTo>
                    <a:cubicBezTo>
                      <a:pt x="1688" y="176"/>
                      <a:pt x="1696" y="400"/>
                      <a:pt x="1720" y="392"/>
                    </a:cubicBezTo>
                    <a:cubicBezTo>
                      <a:pt x="1744" y="384"/>
                      <a:pt x="1800" y="104"/>
                      <a:pt x="1816" y="104"/>
                    </a:cubicBezTo>
                    <a:cubicBezTo>
                      <a:pt x="1832" y="104"/>
                      <a:pt x="1792" y="384"/>
                      <a:pt x="1816" y="392"/>
                    </a:cubicBezTo>
                    <a:cubicBezTo>
                      <a:pt x="1840" y="400"/>
                      <a:pt x="1936" y="152"/>
                      <a:pt x="1960" y="152"/>
                    </a:cubicBezTo>
                    <a:cubicBezTo>
                      <a:pt x="1984" y="152"/>
                      <a:pt x="1928" y="400"/>
                      <a:pt x="1960" y="392"/>
                    </a:cubicBezTo>
                    <a:cubicBezTo>
                      <a:pt x="1992" y="384"/>
                      <a:pt x="2120" y="96"/>
                      <a:pt x="2152" y="104"/>
                    </a:cubicBezTo>
                    <a:cubicBezTo>
                      <a:pt x="2184" y="112"/>
                      <a:pt x="2128" y="448"/>
                      <a:pt x="2152" y="440"/>
                    </a:cubicBezTo>
                    <a:cubicBezTo>
                      <a:pt x="2176" y="432"/>
                      <a:pt x="2256" y="48"/>
                      <a:pt x="2296" y="56"/>
                    </a:cubicBezTo>
                    <a:cubicBezTo>
                      <a:pt x="2336" y="64"/>
                      <a:pt x="2720" y="392"/>
                      <a:pt x="2392" y="488"/>
                    </a:cubicBezTo>
                    <a:cubicBezTo>
                      <a:pt x="2064" y="584"/>
                      <a:pt x="656" y="656"/>
                      <a:pt x="328" y="632"/>
                    </a:cubicBezTo>
                    <a:cubicBezTo>
                      <a:pt x="0" y="608"/>
                      <a:pt x="352" y="416"/>
                      <a:pt x="424" y="344"/>
                    </a:cubicBezTo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08800">
                <a:off x="5105520" y="5867280"/>
                <a:ext cx="4317840" cy="1041480"/>
              </a:xfrm>
              <a:custGeom>
                <a:avLst/>
                <a:gdLst/>
                <a:ahLst/>
                <a:rect l="l" t="t" r="r" b="b"/>
                <a:pathLst>
                  <a:path w="2720" h="656">
                    <a:moveTo>
                      <a:pt x="328" y="488"/>
                    </a:moveTo>
                    <a:cubicBezTo>
                      <a:pt x="324" y="372"/>
                      <a:pt x="320" y="256"/>
                      <a:pt x="328" y="248"/>
                    </a:cubicBezTo>
                    <a:cubicBezTo>
                      <a:pt x="336" y="240"/>
                      <a:pt x="360" y="448"/>
                      <a:pt x="376" y="440"/>
                    </a:cubicBezTo>
                    <a:cubicBezTo>
                      <a:pt x="392" y="432"/>
                      <a:pt x="416" y="192"/>
                      <a:pt x="424" y="200"/>
                    </a:cubicBezTo>
                    <a:cubicBezTo>
                      <a:pt x="432" y="208"/>
                      <a:pt x="408" y="456"/>
                      <a:pt x="424" y="488"/>
                    </a:cubicBezTo>
                    <a:cubicBezTo>
                      <a:pt x="440" y="520"/>
                      <a:pt x="496" y="400"/>
                      <a:pt x="520" y="392"/>
                    </a:cubicBezTo>
                    <a:cubicBezTo>
                      <a:pt x="544" y="384"/>
                      <a:pt x="552" y="472"/>
                      <a:pt x="568" y="440"/>
                    </a:cubicBezTo>
                    <a:cubicBezTo>
                      <a:pt x="584" y="408"/>
                      <a:pt x="592" y="192"/>
                      <a:pt x="616" y="200"/>
                    </a:cubicBezTo>
                    <a:cubicBezTo>
                      <a:pt x="640" y="208"/>
                      <a:pt x="672" y="488"/>
                      <a:pt x="712" y="488"/>
                    </a:cubicBezTo>
                    <a:cubicBezTo>
                      <a:pt x="752" y="488"/>
                      <a:pt x="824" y="208"/>
                      <a:pt x="856" y="200"/>
                    </a:cubicBezTo>
                    <a:cubicBezTo>
                      <a:pt x="888" y="192"/>
                      <a:pt x="888" y="432"/>
                      <a:pt x="904" y="440"/>
                    </a:cubicBezTo>
                    <a:cubicBezTo>
                      <a:pt x="920" y="448"/>
                      <a:pt x="944" y="256"/>
                      <a:pt x="952" y="248"/>
                    </a:cubicBezTo>
                    <a:cubicBezTo>
                      <a:pt x="960" y="240"/>
                      <a:pt x="936" y="432"/>
                      <a:pt x="952" y="392"/>
                    </a:cubicBezTo>
                    <a:cubicBezTo>
                      <a:pt x="968" y="352"/>
                      <a:pt x="1032" y="0"/>
                      <a:pt x="1048" y="8"/>
                    </a:cubicBezTo>
                    <a:cubicBezTo>
                      <a:pt x="1064" y="16"/>
                      <a:pt x="1032" y="392"/>
                      <a:pt x="1048" y="440"/>
                    </a:cubicBezTo>
                    <a:cubicBezTo>
                      <a:pt x="1064" y="488"/>
                      <a:pt x="1128" y="304"/>
                      <a:pt x="1144" y="296"/>
                    </a:cubicBezTo>
                    <a:cubicBezTo>
                      <a:pt x="1160" y="288"/>
                      <a:pt x="1136" y="392"/>
                      <a:pt x="1144" y="392"/>
                    </a:cubicBezTo>
                    <a:cubicBezTo>
                      <a:pt x="1152" y="392"/>
                      <a:pt x="1184" y="288"/>
                      <a:pt x="1192" y="296"/>
                    </a:cubicBezTo>
                    <a:cubicBezTo>
                      <a:pt x="1200" y="304"/>
                      <a:pt x="1168" y="464"/>
                      <a:pt x="1192" y="440"/>
                    </a:cubicBezTo>
                    <a:cubicBezTo>
                      <a:pt x="1216" y="416"/>
                      <a:pt x="1312" y="152"/>
                      <a:pt x="1336" y="152"/>
                    </a:cubicBezTo>
                    <a:cubicBezTo>
                      <a:pt x="1360" y="152"/>
                      <a:pt x="1328" y="464"/>
                      <a:pt x="1336" y="440"/>
                    </a:cubicBezTo>
                    <a:cubicBezTo>
                      <a:pt x="1344" y="416"/>
                      <a:pt x="1376" y="16"/>
                      <a:pt x="1384" y="8"/>
                    </a:cubicBezTo>
                    <a:cubicBezTo>
                      <a:pt x="1392" y="0"/>
                      <a:pt x="1360" y="392"/>
                      <a:pt x="1384" y="392"/>
                    </a:cubicBezTo>
                    <a:cubicBezTo>
                      <a:pt x="1408" y="392"/>
                      <a:pt x="1504" y="8"/>
                      <a:pt x="1528" y="8"/>
                    </a:cubicBezTo>
                    <a:cubicBezTo>
                      <a:pt x="1552" y="8"/>
                      <a:pt x="1512" y="352"/>
                      <a:pt x="1528" y="392"/>
                    </a:cubicBezTo>
                    <a:cubicBezTo>
                      <a:pt x="1544" y="432"/>
                      <a:pt x="1600" y="288"/>
                      <a:pt x="1624" y="248"/>
                    </a:cubicBezTo>
                    <a:cubicBezTo>
                      <a:pt x="1648" y="208"/>
                      <a:pt x="1656" y="128"/>
                      <a:pt x="1672" y="152"/>
                    </a:cubicBezTo>
                    <a:cubicBezTo>
                      <a:pt x="1688" y="176"/>
                      <a:pt x="1696" y="400"/>
                      <a:pt x="1720" y="392"/>
                    </a:cubicBezTo>
                    <a:cubicBezTo>
                      <a:pt x="1744" y="384"/>
                      <a:pt x="1800" y="104"/>
                      <a:pt x="1816" y="104"/>
                    </a:cubicBezTo>
                    <a:cubicBezTo>
                      <a:pt x="1832" y="104"/>
                      <a:pt x="1792" y="384"/>
                      <a:pt x="1816" y="392"/>
                    </a:cubicBezTo>
                    <a:cubicBezTo>
                      <a:pt x="1840" y="400"/>
                      <a:pt x="1936" y="152"/>
                      <a:pt x="1960" y="152"/>
                    </a:cubicBezTo>
                    <a:cubicBezTo>
                      <a:pt x="1984" y="152"/>
                      <a:pt x="1928" y="400"/>
                      <a:pt x="1960" y="392"/>
                    </a:cubicBezTo>
                    <a:cubicBezTo>
                      <a:pt x="1992" y="384"/>
                      <a:pt x="2120" y="96"/>
                      <a:pt x="2152" y="104"/>
                    </a:cubicBezTo>
                    <a:cubicBezTo>
                      <a:pt x="2184" y="112"/>
                      <a:pt x="2128" y="448"/>
                      <a:pt x="2152" y="440"/>
                    </a:cubicBezTo>
                    <a:cubicBezTo>
                      <a:pt x="2176" y="432"/>
                      <a:pt x="2256" y="48"/>
                      <a:pt x="2296" y="56"/>
                    </a:cubicBezTo>
                    <a:cubicBezTo>
                      <a:pt x="2336" y="64"/>
                      <a:pt x="2720" y="392"/>
                      <a:pt x="2392" y="488"/>
                    </a:cubicBezTo>
                    <a:cubicBezTo>
                      <a:pt x="2064" y="584"/>
                      <a:pt x="656" y="656"/>
                      <a:pt x="328" y="632"/>
                    </a:cubicBezTo>
                    <a:cubicBezTo>
                      <a:pt x="0" y="608"/>
                      <a:pt x="352" y="416"/>
                      <a:pt x="424" y="344"/>
                    </a:cubicBezTo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0"/>
            <a:ext cx="3429000" cy="1447920"/>
          </a:xfrm>
          <a:prstGeom prst="cloudCallout">
            <a:avLst>
              <a:gd name="adj1" fmla="val 27268"/>
              <a:gd name="adj2" fmla="val -5152"/>
            </a:avLst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4724280"/>
            <a:ext cx="152280" cy="152640"/>
          </a:xfrm>
          <a:prstGeom prst="ellipse">
            <a:avLst/>
          </a:prstGeom>
          <a:solidFill>
            <a:srgbClr val="f264e1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267080" y="4648320"/>
            <a:ext cx="304920" cy="304200"/>
            <a:chOff x="4267080" y="4648320"/>
            <a:chExt cx="304920" cy="304200"/>
          </a:xfrm>
        </p:grpSpPr>
        <p:sp>
          <p:nvSpPr>
            <p:cNvPr id="82" name=""/>
            <p:cNvSpPr/>
            <p:nvPr/>
          </p:nvSpPr>
          <p:spPr>
            <a:xfrm>
              <a:off x="4343400" y="4648320"/>
              <a:ext cx="75960" cy="75960"/>
            </a:xfrm>
            <a:prstGeom prst="ellipse">
              <a:avLst/>
            </a:prstGeom>
            <a:solidFill>
              <a:srgbClr val="cc0099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67080" y="4724280"/>
              <a:ext cx="76320" cy="75600"/>
            </a:xfrm>
            <a:prstGeom prst="ellipse">
              <a:avLst/>
            </a:prstGeom>
            <a:solidFill>
              <a:srgbClr val="cc0099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67080" y="4800240"/>
              <a:ext cx="76320" cy="75960"/>
            </a:xfrm>
            <a:prstGeom prst="ellipse">
              <a:avLst/>
            </a:prstGeom>
            <a:solidFill>
              <a:srgbClr val="cc0099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19360" y="4648320"/>
              <a:ext cx="76320" cy="75960"/>
            </a:xfrm>
            <a:prstGeom prst="ellipse">
              <a:avLst/>
            </a:prstGeom>
            <a:solidFill>
              <a:srgbClr val="cc0099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5680" y="4724280"/>
              <a:ext cx="76320" cy="75600"/>
            </a:xfrm>
            <a:prstGeom prst="ellipse">
              <a:avLst/>
            </a:prstGeom>
            <a:solidFill>
              <a:srgbClr val="cc0099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5680" y="4800240"/>
              <a:ext cx="76320" cy="75960"/>
            </a:xfrm>
            <a:prstGeom prst="ellipse">
              <a:avLst/>
            </a:prstGeom>
            <a:solidFill>
              <a:srgbClr val="cc0099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9360" y="4876560"/>
              <a:ext cx="76320" cy="75960"/>
            </a:xfrm>
            <a:prstGeom prst="ellipse">
              <a:avLst/>
            </a:prstGeom>
            <a:solidFill>
              <a:srgbClr val="cc0099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3400" y="4876560"/>
              <a:ext cx="75960" cy="75960"/>
            </a:xfrm>
            <a:prstGeom prst="ellipse">
              <a:avLst/>
            </a:prstGeom>
            <a:solidFill>
              <a:srgbClr val="cc0099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00200" y="4800600"/>
            <a:ext cx="152280" cy="152280"/>
          </a:xfrm>
          <a:prstGeom prst="ellipse">
            <a:avLst/>
          </a:prstGeom>
          <a:solidFill>
            <a:srgbClr val="ff0066"/>
          </a:solidFill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3880" y="4724280"/>
            <a:ext cx="304920" cy="304920"/>
            <a:chOff x="1523880" y="4724280"/>
            <a:chExt cx="304920" cy="304920"/>
          </a:xfrm>
        </p:grpSpPr>
        <p:sp>
          <p:nvSpPr>
            <p:cNvPr id="92" name=""/>
            <p:cNvSpPr/>
            <p:nvPr/>
          </p:nvSpPr>
          <p:spPr>
            <a:xfrm>
              <a:off x="1600200" y="4724280"/>
              <a:ext cx="75960" cy="7632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3880" y="4800600"/>
              <a:ext cx="76320" cy="7596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23880" y="4876560"/>
              <a:ext cx="76320" cy="7632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76160" y="4724280"/>
              <a:ext cx="76320" cy="7632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4800600"/>
              <a:ext cx="76320" cy="7596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2480" y="4876560"/>
              <a:ext cx="76320" cy="7632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6160" y="4952880"/>
              <a:ext cx="76320" cy="7632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00200" y="4952880"/>
              <a:ext cx="75960" cy="7632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477120" y="4800600"/>
            <a:ext cx="152280" cy="152280"/>
          </a:xfrm>
          <a:prstGeom prst="ellipse">
            <a:avLst/>
          </a:prstGeom>
          <a:solidFill>
            <a:srgbClr val="ff0066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4724280"/>
            <a:ext cx="304920" cy="304920"/>
            <a:chOff x="6400800" y="4724280"/>
            <a:chExt cx="304920" cy="304920"/>
          </a:xfrm>
        </p:grpSpPr>
        <p:sp>
          <p:nvSpPr>
            <p:cNvPr id="102" name=""/>
            <p:cNvSpPr/>
            <p:nvPr/>
          </p:nvSpPr>
          <p:spPr>
            <a:xfrm>
              <a:off x="6477120" y="4724280"/>
              <a:ext cx="75960" cy="7632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800600"/>
              <a:ext cx="76320" cy="7596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4876560"/>
              <a:ext cx="76320" cy="7632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3080" y="4724280"/>
              <a:ext cx="76320" cy="7632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400" y="4800600"/>
              <a:ext cx="76320" cy="7596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29400" y="4876560"/>
              <a:ext cx="76320" cy="7632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53080" y="4952880"/>
              <a:ext cx="76320" cy="7632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4952880"/>
              <a:ext cx="75960" cy="7632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514600" y="5410080"/>
            <a:ext cx="152280" cy="152640"/>
          </a:xfrm>
          <a:prstGeom prst="ellipse">
            <a:avLst/>
          </a:prstGeom>
          <a:solidFill>
            <a:srgbClr val="0033cc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38280" y="5334120"/>
            <a:ext cx="304920" cy="304200"/>
            <a:chOff x="2438280" y="5334120"/>
            <a:chExt cx="304920" cy="304200"/>
          </a:xfrm>
        </p:grpSpPr>
        <p:sp>
          <p:nvSpPr>
            <p:cNvPr id="112" name=""/>
            <p:cNvSpPr/>
            <p:nvPr/>
          </p:nvSpPr>
          <p:spPr>
            <a:xfrm>
              <a:off x="2514600" y="533412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5410080"/>
              <a:ext cx="76320" cy="7560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548604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90560" y="533412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5410080"/>
              <a:ext cx="76320" cy="7560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66880" y="548604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90560" y="55623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14600" y="55623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57200" y="5715000"/>
            <a:ext cx="152280" cy="15228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264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80880" y="5638680"/>
            <a:ext cx="304920" cy="304920"/>
            <a:chOff x="380880" y="5638680"/>
            <a:chExt cx="304920" cy="304920"/>
          </a:xfrm>
        </p:grpSpPr>
        <p:sp>
          <p:nvSpPr>
            <p:cNvPr id="122" name=""/>
            <p:cNvSpPr/>
            <p:nvPr/>
          </p:nvSpPr>
          <p:spPr>
            <a:xfrm>
              <a:off x="457200" y="5638680"/>
              <a:ext cx="75960" cy="76320"/>
            </a:xfrm>
            <a:prstGeom prst="ellipse">
              <a:avLst/>
            </a:prstGeom>
            <a:solidFill>
              <a:srgbClr val="ff0066"/>
            </a:solidFill>
            <a:ln w="6480">
              <a:solidFill>
                <a:srgbClr val="f26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880" y="5715000"/>
              <a:ext cx="76320" cy="75960"/>
            </a:xfrm>
            <a:prstGeom prst="ellipse">
              <a:avLst/>
            </a:prstGeom>
            <a:solidFill>
              <a:srgbClr val="ff0066"/>
            </a:solidFill>
            <a:ln w="6480">
              <a:solidFill>
                <a:srgbClr val="f26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880" y="5790960"/>
              <a:ext cx="76320" cy="76320"/>
            </a:xfrm>
            <a:prstGeom prst="ellipse">
              <a:avLst/>
            </a:prstGeom>
            <a:solidFill>
              <a:srgbClr val="ff0066"/>
            </a:solidFill>
            <a:ln w="6480">
              <a:solidFill>
                <a:srgbClr val="f26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160" y="5638680"/>
              <a:ext cx="76320" cy="76320"/>
            </a:xfrm>
            <a:prstGeom prst="ellipse">
              <a:avLst/>
            </a:prstGeom>
            <a:solidFill>
              <a:srgbClr val="ff0066"/>
            </a:solidFill>
            <a:ln w="6480">
              <a:solidFill>
                <a:srgbClr val="f26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80" y="5715000"/>
              <a:ext cx="76320" cy="75960"/>
            </a:xfrm>
            <a:prstGeom prst="ellipse">
              <a:avLst/>
            </a:prstGeom>
            <a:solidFill>
              <a:srgbClr val="ff0066"/>
            </a:solidFill>
            <a:ln w="6480">
              <a:solidFill>
                <a:srgbClr val="f26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5790960"/>
              <a:ext cx="76320" cy="76320"/>
            </a:xfrm>
            <a:prstGeom prst="ellipse">
              <a:avLst/>
            </a:prstGeom>
            <a:solidFill>
              <a:srgbClr val="ff0066"/>
            </a:solidFill>
            <a:ln w="6480">
              <a:solidFill>
                <a:srgbClr val="f26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160" y="5867280"/>
              <a:ext cx="76320" cy="76320"/>
            </a:xfrm>
            <a:prstGeom prst="ellipse">
              <a:avLst/>
            </a:prstGeom>
            <a:solidFill>
              <a:srgbClr val="ff0066"/>
            </a:solidFill>
            <a:ln w="6480">
              <a:solidFill>
                <a:srgbClr val="f26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5867280"/>
              <a:ext cx="75960" cy="76320"/>
            </a:xfrm>
            <a:prstGeom prst="ellipse">
              <a:avLst/>
            </a:prstGeom>
            <a:solidFill>
              <a:srgbClr val="ff0066"/>
            </a:solidFill>
            <a:ln w="6480">
              <a:solidFill>
                <a:srgbClr val="f26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696080" y="5410080"/>
            <a:ext cx="152640" cy="152640"/>
          </a:xfrm>
          <a:prstGeom prst="ellipse">
            <a:avLst/>
          </a:prstGeom>
          <a:solidFill>
            <a:srgbClr val="66ffff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0120" y="5334120"/>
            <a:ext cx="304200" cy="304200"/>
            <a:chOff x="7620120" y="5334120"/>
            <a:chExt cx="304200" cy="304200"/>
          </a:xfrm>
        </p:grpSpPr>
        <p:sp>
          <p:nvSpPr>
            <p:cNvPr id="132" name=""/>
            <p:cNvSpPr/>
            <p:nvPr/>
          </p:nvSpPr>
          <p:spPr>
            <a:xfrm>
              <a:off x="7696080" y="5334120"/>
              <a:ext cx="75600" cy="759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5410080"/>
              <a:ext cx="75960" cy="756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0120" y="5486040"/>
              <a:ext cx="75960" cy="75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2040" y="5334120"/>
              <a:ext cx="75960" cy="759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48360" y="5410080"/>
              <a:ext cx="75960" cy="756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48360" y="5486040"/>
              <a:ext cx="75960" cy="75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72040" y="5562360"/>
              <a:ext cx="75960" cy="75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6080" y="5562360"/>
              <a:ext cx="75600" cy="759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562720" y="5181480"/>
            <a:ext cx="152280" cy="152640"/>
          </a:xfrm>
          <a:prstGeom prst="ellipse">
            <a:avLst/>
          </a:prstGeom>
          <a:solidFill>
            <a:srgbClr val="0033cc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486400" y="5105520"/>
            <a:ext cx="304920" cy="304200"/>
            <a:chOff x="5486400" y="5105520"/>
            <a:chExt cx="304920" cy="304200"/>
          </a:xfrm>
        </p:grpSpPr>
        <p:sp>
          <p:nvSpPr>
            <p:cNvPr id="142" name=""/>
            <p:cNvSpPr/>
            <p:nvPr/>
          </p:nvSpPr>
          <p:spPr>
            <a:xfrm>
              <a:off x="5562720" y="510552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5181480"/>
              <a:ext cx="76320" cy="7560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6400" y="525744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38680" y="510552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5000" y="5181480"/>
              <a:ext cx="76320" cy="7560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15000" y="525744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38680" y="53337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2720" y="53337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048120" y="4648320"/>
            <a:ext cx="1295280" cy="1447560"/>
            <a:chOff x="3048120" y="4648320"/>
            <a:chExt cx="1295280" cy="1447560"/>
          </a:xfrm>
        </p:grpSpPr>
        <p:sp>
          <p:nvSpPr>
            <p:cNvPr id="151" name=""/>
            <p:cNvSpPr/>
            <p:nvPr/>
          </p:nvSpPr>
          <p:spPr>
            <a:xfrm flipH="1">
              <a:off x="3048120" y="4648320"/>
              <a:ext cx="1295280" cy="1447560"/>
            </a:xfrm>
            <a:custGeom>
              <a:avLst/>
              <a:gdLst>
                <a:gd name="textAreaLeft" fmla="*/ 474840 w 1295280"/>
                <a:gd name="textAreaRight" fmla="*/ 820440 w 1295280"/>
                <a:gd name="textAreaTop" fmla="*/ 530640 h 1447560"/>
                <a:gd name="textAreaBottom" fmla="*/ 916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754" y="11297"/>
                  </a:lnTo>
                  <a:lnTo>
                    <a:pt x="368" y="13595"/>
                  </a:lnTo>
                  <a:lnTo>
                    <a:pt x="7021" y="12327"/>
                  </a:lnTo>
                  <a:lnTo>
                    <a:pt x="1447" y="16200"/>
                  </a:lnTo>
                  <a:lnTo>
                    <a:pt x="7545" y="13253"/>
                  </a:lnTo>
                  <a:lnTo>
                    <a:pt x="3163" y="18437"/>
                  </a:lnTo>
                  <a:lnTo>
                    <a:pt x="8291" y="14012"/>
                  </a:lnTo>
                  <a:lnTo>
                    <a:pt x="5400" y="20153"/>
                  </a:lnTo>
                  <a:lnTo>
                    <a:pt x="9207" y="14552"/>
                  </a:lnTo>
                  <a:lnTo>
                    <a:pt x="8005" y="21232"/>
                  </a:lnTo>
                  <a:lnTo>
                    <a:pt x="10233" y="14836"/>
                  </a:lnTo>
                  <a:lnTo>
                    <a:pt x="10800" y="21600"/>
                  </a:lnTo>
                  <a:lnTo>
                    <a:pt x="11297" y="14846"/>
                  </a:lnTo>
                  <a:lnTo>
                    <a:pt x="13595" y="21232"/>
                  </a:lnTo>
                  <a:lnTo>
                    <a:pt x="12327" y="14579"/>
                  </a:lnTo>
                  <a:lnTo>
                    <a:pt x="16200" y="20153"/>
                  </a:lnTo>
                  <a:lnTo>
                    <a:pt x="13253" y="14055"/>
                  </a:lnTo>
                  <a:lnTo>
                    <a:pt x="18437" y="18437"/>
                  </a:lnTo>
                  <a:lnTo>
                    <a:pt x="14012" y="13309"/>
                  </a:lnTo>
                  <a:lnTo>
                    <a:pt x="20153" y="16200"/>
                  </a:lnTo>
                  <a:lnTo>
                    <a:pt x="14552" y="12393"/>
                  </a:lnTo>
                  <a:lnTo>
                    <a:pt x="21232" y="13595"/>
                  </a:lnTo>
                  <a:lnTo>
                    <a:pt x="14836" y="11367"/>
                  </a:lnTo>
                  <a:lnTo>
                    <a:pt x="21600" y="10800"/>
                  </a:lnTo>
                  <a:lnTo>
                    <a:pt x="14846" y="10303"/>
                  </a:lnTo>
                  <a:lnTo>
                    <a:pt x="21232" y="8005"/>
                  </a:lnTo>
                  <a:lnTo>
                    <a:pt x="14579" y="9273"/>
                  </a:lnTo>
                  <a:lnTo>
                    <a:pt x="20153" y="5400"/>
                  </a:lnTo>
                  <a:lnTo>
                    <a:pt x="14055" y="8347"/>
                  </a:lnTo>
                  <a:lnTo>
                    <a:pt x="18437" y="3163"/>
                  </a:lnTo>
                  <a:lnTo>
                    <a:pt x="13309" y="7588"/>
                  </a:lnTo>
                  <a:lnTo>
                    <a:pt x="16200" y="1447"/>
                  </a:lnTo>
                  <a:lnTo>
                    <a:pt x="12393" y="7048"/>
                  </a:lnTo>
                  <a:lnTo>
                    <a:pt x="13595" y="368"/>
                  </a:lnTo>
                  <a:lnTo>
                    <a:pt x="11367" y="6764"/>
                  </a:lnTo>
                  <a:lnTo>
                    <a:pt x="10800" y="0"/>
                  </a:lnTo>
                  <a:lnTo>
                    <a:pt x="10303" y="6754"/>
                  </a:lnTo>
                  <a:lnTo>
                    <a:pt x="8005" y="368"/>
                  </a:lnTo>
                  <a:lnTo>
                    <a:pt x="9273" y="7021"/>
                  </a:lnTo>
                  <a:lnTo>
                    <a:pt x="5400" y="1447"/>
                  </a:lnTo>
                  <a:lnTo>
                    <a:pt x="8347" y="7545"/>
                  </a:lnTo>
                  <a:lnTo>
                    <a:pt x="3163" y="3163"/>
                  </a:lnTo>
                  <a:lnTo>
                    <a:pt x="7588" y="8291"/>
                  </a:lnTo>
                  <a:lnTo>
                    <a:pt x="1447" y="5400"/>
                  </a:lnTo>
                  <a:lnTo>
                    <a:pt x="7048" y="9207"/>
                  </a:lnTo>
                  <a:lnTo>
                    <a:pt x="368" y="8005"/>
                  </a:lnTo>
                  <a:lnTo>
                    <a:pt x="6764" y="1023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5c5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353040" y="5257800"/>
              <a:ext cx="533160" cy="340560"/>
              <a:chOff x="3353040" y="5257800"/>
              <a:chExt cx="533160" cy="34056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3505320" y="5257800"/>
                <a:ext cx="380880" cy="152280"/>
                <a:chOff x="3505320" y="5257800"/>
                <a:chExt cx="380880" cy="152280"/>
              </a:xfrm>
            </p:grpSpPr>
            <p:sp>
              <p:nvSpPr>
                <p:cNvPr id="154" name=""/>
                <p:cNvSpPr/>
                <p:nvPr/>
              </p:nvSpPr>
              <p:spPr>
                <a:xfrm flipH="1">
                  <a:off x="3733560" y="52578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504960" y="52578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3733560" y="533376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3504960" y="533376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53040" y="5375160"/>
                <a:ext cx="395280" cy="223200"/>
                <a:chOff x="3353040" y="5375160"/>
                <a:chExt cx="395280" cy="223200"/>
              </a:xfrm>
            </p:grpSpPr>
            <p:sp>
              <p:nvSpPr>
                <p:cNvPr id="159" name=""/>
                <p:cNvSpPr/>
                <p:nvPr/>
              </p:nvSpPr>
              <p:spPr>
                <a:xfrm flipH="1" rot="879000">
                  <a:off x="3435120" y="5410440"/>
                  <a:ext cx="298440" cy="152640"/>
                </a:xfrm>
                <a:custGeom>
                  <a:avLst/>
                  <a:gdLst/>
                  <a:ahLst/>
                  <a:rect l="l" t="t" r="r" b="b"/>
                  <a:pathLst>
                    <a:path w="192" h="152">
                      <a:moveTo>
                        <a:pt x="48" y="0"/>
                      </a:moveTo>
                      <a:cubicBezTo>
                        <a:pt x="60" y="36"/>
                        <a:pt x="72" y="72"/>
                        <a:pt x="96" y="96"/>
                      </a:cubicBezTo>
                      <a:cubicBezTo>
                        <a:pt x="120" y="120"/>
                        <a:pt x="192" y="136"/>
                        <a:pt x="192" y="144"/>
                      </a:cubicBezTo>
                      <a:cubicBezTo>
                        <a:pt x="192" y="152"/>
                        <a:pt x="128" y="144"/>
                        <a:pt x="96" y="144"/>
                      </a:cubicBezTo>
                      <a:cubicBezTo>
                        <a:pt x="64" y="144"/>
                        <a:pt x="32" y="144"/>
                        <a:pt x="0" y="14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353040" y="5486400"/>
                  <a:ext cx="76320" cy="76320"/>
                </a:xfrm>
                <a:prstGeom prst="ellipse">
                  <a:avLst/>
                </a:prstGeom>
                <a:solidFill>
                  <a:srgbClr val="ff3d0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" name=""/>
          <p:cNvGrpSpPr/>
          <p:nvPr/>
        </p:nvGrpSpPr>
        <p:grpSpPr>
          <a:xfrm>
            <a:off x="1143000" y="4191120"/>
            <a:ext cx="1104120" cy="635040"/>
            <a:chOff x="1143000" y="4191120"/>
            <a:chExt cx="1104120" cy="635040"/>
          </a:xfrm>
        </p:grpSpPr>
        <p:sp>
          <p:nvSpPr>
            <p:cNvPr id="162" name=""/>
            <p:cNvSpPr/>
            <p:nvPr/>
          </p:nvSpPr>
          <p:spPr>
            <a:xfrm>
              <a:off x="1371240" y="4267080"/>
              <a:ext cx="60948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47560" y="4343400"/>
              <a:ext cx="4568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3880" y="4419720"/>
              <a:ext cx="3805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99840" y="4495680"/>
              <a:ext cx="30456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43000" y="4191120"/>
              <a:ext cx="571320" cy="253800"/>
            </a:xfrm>
            <a:custGeom>
              <a:avLst/>
              <a:gdLst/>
              <a:ahLst/>
              <a:rect l="l" t="t" r="r" b="b"/>
              <a:pathLst>
                <a:path w="360" h="160">
                  <a:moveTo>
                    <a:pt x="344" y="152"/>
                  </a:moveTo>
                  <a:cubicBezTo>
                    <a:pt x="360" y="144"/>
                    <a:pt x="352" y="120"/>
                    <a:pt x="344" y="104"/>
                  </a:cubicBezTo>
                  <a:cubicBezTo>
                    <a:pt x="336" y="88"/>
                    <a:pt x="312" y="72"/>
                    <a:pt x="296" y="56"/>
                  </a:cubicBezTo>
                  <a:cubicBezTo>
                    <a:pt x="280" y="40"/>
                    <a:pt x="272" y="16"/>
                    <a:pt x="248" y="8"/>
                  </a:cubicBezTo>
                  <a:cubicBezTo>
                    <a:pt x="224" y="0"/>
                    <a:pt x="184" y="8"/>
                    <a:pt x="152" y="8"/>
                  </a:cubicBezTo>
                  <a:cubicBezTo>
                    <a:pt x="120" y="8"/>
                    <a:pt x="80" y="0"/>
                    <a:pt x="56" y="8"/>
                  </a:cubicBezTo>
                  <a:cubicBezTo>
                    <a:pt x="32" y="16"/>
                    <a:pt x="16" y="40"/>
                    <a:pt x="8" y="56"/>
                  </a:cubicBezTo>
                  <a:cubicBezTo>
                    <a:pt x="0" y="72"/>
                    <a:pt x="0" y="88"/>
                    <a:pt x="8" y="104"/>
                  </a:cubicBezTo>
                  <a:cubicBezTo>
                    <a:pt x="16" y="120"/>
                    <a:pt x="40" y="144"/>
                    <a:pt x="56" y="152"/>
                  </a:cubicBezTo>
                  <a:cubicBezTo>
                    <a:pt x="72" y="160"/>
                    <a:pt x="88" y="160"/>
                    <a:pt x="104" y="152"/>
                  </a:cubicBezTo>
                  <a:cubicBezTo>
                    <a:pt x="120" y="144"/>
                    <a:pt x="136" y="112"/>
                    <a:pt x="152" y="104"/>
                  </a:cubicBezTo>
                  <a:cubicBezTo>
                    <a:pt x="168" y="96"/>
                    <a:pt x="184" y="96"/>
                    <a:pt x="200" y="104"/>
                  </a:cubicBezTo>
                  <a:cubicBezTo>
                    <a:pt x="216" y="112"/>
                    <a:pt x="224" y="144"/>
                    <a:pt x="248" y="152"/>
                  </a:cubicBezTo>
                  <a:cubicBezTo>
                    <a:pt x="272" y="160"/>
                    <a:pt x="328" y="160"/>
                    <a:pt x="344" y="152"/>
                  </a:cubicBez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675440" y="4191120"/>
              <a:ext cx="571320" cy="253800"/>
            </a:xfrm>
            <a:custGeom>
              <a:avLst/>
              <a:gdLst/>
              <a:ahLst/>
              <a:rect l="l" t="t" r="r" b="b"/>
              <a:pathLst>
                <a:path w="360" h="160">
                  <a:moveTo>
                    <a:pt x="344" y="152"/>
                  </a:moveTo>
                  <a:cubicBezTo>
                    <a:pt x="360" y="144"/>
                    <a:pt x="352" y="120"/>
                    <a:pt x="344" y="104"/>
                  </a:cubicBezTo>
                  <a:cubicBezTo>
                    <a:pt x="336" y="88"/>
                    <a:pt x="312" y="72"/>
                    <a:pt x="296" y="56"/>
                  </a:cubicBezTo>
                  <a:cubicBezTo>
                    <a:pt x="280" y="40"/>
                    <a:pt x="272" y="16"/>
                    <a:pt x="248" y="8"/>
                  </a:cubicBezTo>
                  <a:cubicBezTo>
                    <a:pt x="224" y="0"/>
                    <a:pt x="184" y="8"/>
                    <a:pt x="152" y="8"/>
                  </a:cubicBezTo>
                  <a:cubicBezTo>
                    <a:pt x="120" y="8"/>
                    <a:pt x="80" y="0"/>
                    <a:pt x="56" y="8"/>
                  </a:cubicBezTo>
                  <a:cubicBezTo>
                    <a:pt x="32" y="16"/>
                    <a:pt x="16" y="40"/>
                    <a:pt x="8" y="56"/>
                  </a:cubicBezTo>
                  <a:cubicBezTo>
                    <a:pt x="0" y="72"/>
                    <a:pt x="0" y="88"/>
                    <a:pt x="8" y="104"/>
                  </a:cubicBezTo>
                  <a:cubicBezTo>
                    <a:pt x="16" y="120"/>
                    <a:pt x="40" y="144"/>
                    <a:pt x="56" y="152"/>
                  </a:cubicBezTo>
                  <a:cubicBezTo>
                    <a:pt x="72" y="160"/>
                    <a:pt x="88" y="160"/>
                    <a:pt x="104" y="152"/>
                  </a:cubicBezTo>
                  <a:cubicBezTo>
                    <a:pt x="120" y="144"/>
                    <a:pt x="136" y="112"/>
                    <a:pt x="152" y="104"/>
                  </a:cubicBezTo>
                  <a:cubicBezTo>
                    <a:pt x="168" y="96"/>
                    <a:pt x="184" y="96"/>
                    <a:pt x="200" y="104"/>
                  </a:cubicBezTo>
                  <a:cubicBezTo>
                    <a:pt x="216" y="112"/>
                    <a:pt x="224" y="144"/>
                    <a:pt x="248" y="152"/>
                  </a:cubicBezTo>
                  <a:cubicBezTo>
                    <a:pt x="272" y="160"/>
                    <a:pt x="328" y="160"/>
                    <a:pt x="344" y="152"/>
                  </a:cubicBez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676160" y="4495680"/>
              <a:ext cx="227880" cy="167040"/>
              <a:chOff x="1676160" y="4495680"/>
              <a:chExt cx="227880" cy="1670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76160" y="4495680"/>
                <a:ext cx="163080" cy="76320"/>
                <a:chOff x="1676160" y="4495680"/>
                <a:chExt cx="163080" cy="763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676160" y="4495680"/>
                  <a:ext cx="65160" cy="763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774080" y="4495680"/>
                  <a:ext cx="65160" cy="763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08560" y="4533480"/>
                  <a:ext cx="324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806840" y="4533480"/>
                  <a:ext cx="324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733760" y="4556880"/>
                <a:ext cx="170280" cy="105840"/>
                <a:chOff x="1733760" y="4556880"/>
                <a:chExt cx="170280" cy="105840"/>
              </a:xfrm>
            </p:grpSpPr>
            <p:sp>
              <p:nvSpPr>
                <p:cNvPr id="175" name=""/>
                <p:cNvSpPr/>
                <p:nvPr/>
              </p:nvSpPr>
              <p:spPr>
                <a:xfrm rot="20721000">
                  <a:off x="1740960" y="4571640"/>
                  <a:ext cx="127800" cy="75960"/>
                </a:xfrm>
                <a:custGeom>
                  <a:avLst/>
                  <a:gdLst/>
                  <a:ahLst/>
                  <a:rect l="l" t="t" r="r" b="b"/>
                  <a:pathLst>
                    <a:path w="192" h="152">
                      <a:moveTo>
                        <a:pt x="48" y="0"/>
                      </a:moveTo>
                      <a:cubicBezTo>
                        <a:pt x="60" y="36"/>
                        <a:pt x="72" y="72"/>
                        <a:pt x="96" y="96"/>
                      </a:cubicBezTo>
                      <a:cubicBezTo>
                        <a:pt x="120" y="120"/>
                        <a:pt x="192" y="136"/>
                        <a:pt x="192" y="144"/>
                      </a:cubicBezTo>
                      <a:cubicBezTo>
                        <a:pt x="192" y="152"/>
                        <a:pt x="128" y="144"/>
                        <a:pt x="96" y="144"/>
                      </a:cubicBezTo>
                      <a:cubicBezTo>
                        <a:pt x="64" y="144"/>
                        <a:pt x="32" y="144"/>
                        <a:pt x="0" y="14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871640" y="4609800"/>
                  <a:ext cx="32400" cy="38160"/>
                </a:xfrm>
                <a:prstGeom prst="ellipse">
                  <a:avLst/>
                </a:prstGeom>
                <a:solidFill>
                  <a:srgbClr val="ff3d01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1447560" y="4711680"/>
              <a:ext cx="151920" cy="10152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96" y="8"/>
                  </a:moveTo>
                  <a:cubicBezTo>
                    <a:pt x="76" y="4"/>
                    <a:pt x="56" y="0"/>
                    <a:pt x="48" y="8"/>
                  </a:cubicBezTo>
                  <a:cubicBezTo>
                    <a:pt x="40" y="16"/>
                    <a:pt x="56" y="48"/>
                    <a:pt x="48" y="56"/>
                  </a:cubicBezTo>
                  <a:cubicBezTo>
                    <a:pt x="40" y="64"/>
                    <a:pt x="0" y="32"/>
                    <a:pt x="0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240" y="4648320"/>
              <a:ext cx="152280" cy="10152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96" y="8"/>
                  </a:moveTo>
                  <a:cubicBezTo>
                    <a:pt x="76" y="4"/>
                    <a:pt x="56" y="0"/>
                    <a:pt x="48" y="8"/>
                  </a:cubicBezTo>
                  <a:cubicBezTo>
                    <a:pt x="40" y="16"/>
                    <a:pt x="56" y="48"/>
                    <a:pt x="48" y="56"/>
                  </a:cubicBezTo>
                  <a:cubicBezTo>
                    <a:pt x="40" y="64"/>
                    <a:pt x="0" y="32"/>
                    <a:pt x="0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827720" y="4724280"/>
              <a:ext cx="152280" cy="10188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96" y="8"/>
                  </a:moveTo>
                  <a:cubicBezTo>
                    <a:pt x="76" y="4"/>
                    <a:pt x="56" y="0"/>
                    <a:pt x="48" y="8"/>
                  </a:cubicBezTo>
                  <a:cubicBezTo>
                    <a:pt x="40" y="16"/>
                    <a:pt x="56" y="48"/>
                    <a:pt x="48" y="56"/>
                  </a:cubicBezTo>
                  <a:cubicBezTo>
                    <a:pt x="40" y="64"/>
                    <a:pt x="0" y="32"/>
                    <a:pt x="0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904760" y="4648320"/>
              <a:ext cx="151920" cy="10152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96" y="8"/>
                  </a:moveTo>
                  <a:cubicBezTo>
                    <a:pt x="76" y="4"/>
                    <a:pt x="56" y="0"/>
                    <a:pt x="48" y="8"/>
                  </a:cubicBezTo>
                  <a:cubicBezTo>
                    <a:pt x="40" y="16"/>
                    <a:pt x="56" y="48"/>
                    <a:pt x="48" y="56"/>
                  </a:cubicBezTo>
                  <a:cubicBezTo>
                    <a:pt x="40" y="64"/>
                    <a:pt x="0" y="32"/>
                    <a:pt x="0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8356320" y="2642760"/>
            <a:ext cx="1989000" cy="3732120"/>
            <a:chOff x="8356320" y="2642760"/>
            <a:chExt cx="1989000" cy="3732120"/>
          </a:xfrm>
        </p:grpSpPr>
        <p:sp>
          <p:nvSpPr>
            <p:cNvPr id="182" name=""/>
            <p:cNvSpPr/>
            <p:nvPr/>
          </p:nvSpPr>
          <p:spPr>
            <a:xfrm>
              <a:off x="9905760" y="5334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8356320" y="2642760"/>
              <a:ext cx="1989000" cy="3732120"/>
              <a:chOff x="8356320" y="2642760"/>
              <a:chExt cx="1989000" cy="3732120"/>
            </a:xfrm>
          </p:grpSpPr>
          <p:sp>
            <p:nvSpPr>
              <p:cNvPr id="184" name=""/>
              <p:cNvSpPr/>
              <p:nvPr/>
            </p:nvSpPr>
            <p:spPr>
              <a:xfrm flipV="1" rot="21436200">
                <a:off x="8534160" y="5388480"/>
                <a:ext cx="872640" cy="919800"/>
              </a:xfrm>
              <a:custGeom>
                <a:avLst/>
                <a:gdLst/>
                <a:ahLst/>
                <a:rect l="l" t="t" r="r" b="b"/>
                <a:pathLst>
                  <a:path w="550" h="579">
                    <a:moveTo>
                      <a:pt x="550" y="506"/>
                    </a:moveTo>
                    <a:cubicBezTo>
                      <a:pt x="537" y="470"/>
                      <a:pt x="527" y="454"/>
                      <a:pt x="495" y="433"/>
                    </a:cubicBezTo>
                    <a:cubicBezTo>
                      <a:pt x="467" y="391"/>
                      <a:pt x="439" y="384"/>
                      <a:pt x="422" y="332"/>
                    </a:cubicBezTo>
                    <a:cubicBezTo>
                      <a:pt x="419" y="271"/>
                      <a:pt x="420" y="210"/>
                      <a:pt x="412" y="149"/>
                    </a:cubicBezTo>
                    <a:cubicBezTo>
                      <a:pt x="405" y="98"/>
                      <a:pt x="305" y="62"/>
                      <a:pt x="266" y="49"/>
                    </a:cubicBezTo>
                    <a:cubicBezTo>
                      <a:pt x="197" y="0"/>
                      <a:pt x="171" y="23"/>
                      <a:pt x="65" y="30"/>
                    </a:cubicBezTo>
                    <a:cubicBezTo>
                      <a:pt x="46" y="36"/>
                      <a:pt x="29" y="37"/>
                      <a:pt x="19" y="58"/>
                    </a:cubicBezTo>
                    <a:cubicBezTo>
                      <a:pt x="10" y="75"/>
                      <a:pt x="1" y="113"/>
                      <a:pt x="1" y="113"/>
                    </a:cubicBezTo>
                    <a:cubicBezTo>
                      <a:pt x="4" y="137"/>
                      <a:pt x="0" y="164"/>
                      <a:pt x="10" y="186"/>
                    </a:cubicBezTo>
                    <a:cubicBezTo>
                      <a:pt x="14" y="195"/>
                      <a:pt x="28" y="194"/>
                      <a:pt x="38" y="195"/>
                    </a:cubicBezTo>
                    <a:cubicBezTo>
                      <a:pt x="111" y="200"/>
                      <a:pt x="184" y="201"/>
                      <a:pt x="257" y="204"/>
                    </a:cubicBezTo>
                    <a:cubicBezTo>
                      <a:pt x="284" y="285"/>
                      <a:pt x="270" y="375"/>
                      <a:pt x="284" y="460"/>
                    </a:cubicBezTo>
                    <a:cubicBezTo>
                      <a:pt x="288" y="484"/>
                      <a:pt x="313" y="519"/>
                      <a:pt x="339" y="524"/>
                    </a:cubicBezTo>
                    <a:cubicBezTo>
                      <a:pt x="372" y="531"/>
                      <a:pt x="406" y="530"/>
                      <a:pt x="440" y="533"/>
                    </a:cubicBezTo>
                    <a:cubicBezTo>
                      <a:pt x="461" y="566"/>
                      <a:pt x="458" y="550"/>
                      <a:pt x="458" y="579"/>
                    </a:cubicBez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21402600">
                <a:off x="8381880" y="2727000"/>
                <a:ext cx="873000" cy="919080"/>
              </a:xfrm>
              <a:custGeom>
                <a:avLst/>
                <a:gdLst/>
                <a:ahLst/>
                <a:rect l="l" t="t" r="r" b="b"/>
                <a:pathLst>
                  <a:path w="550" h="579">
                    <a:moveTo>
                      <a:pt x="550" y="506"/>
                    </a:moveTo>
                    <a:cubicBezTo>
                      <a:pt x="537" y="470"/>
                      <a:pt x="527" y="454"/>
                      <a:pt x="495" y="433"/>
                    </a:cubicBezTo>
                    <a:cubicBezTo>
                      <a:pt x="467" y="391"/>
                      <a:pt x="439" y="384"/>
                      <a:pt x="422" y="332"/>
                    </a:cubicBezTo>
                    <a:cubicBezTo>
                      <a:pt x="419" y="271"/>
                      <a:pt x="420" y="210"/>
                      <a:pt x="412" y="149"/>
                    </a:cubicBezTo>
                    <a:cubicBezTo>
                      <a:pt x="405" y="98"/>
                      <a:pt x="305" y="62"/>
                      <a:pt x="266" y="49"/>
                    </a:cubicBezTo>
                    <a:cubicBezTo>
                      <a:pt x="197" y="0"/>
                      <a:pt x="171" y="23"/>
                      <a:pt x="65" y="30"/>
                    </a:cubicBezTo>
                    <a:cubicBezTo>
                      <a:pt x="46" y="36"/>
                      <a:pt x="29" y="37"/>
                      <a:pt x="19" y="58"/>
                    </a:cubicBezTo>
                    <a:cubicBezTo>
                      <a:pt x="10" y="75"/>
                      <a:pt x="1" y="113"/>
                      <a:pt x="1" y="113"/>
                    </a:cubicBezTo>
                    <a:cubicBezTo>
                      <a:pt x="4" y="137"/>
                      <a:pt x="0" y="164"/>
                      <a:pt x="10" y="186"/>
                    </a:cubicBezTo>
                    <a:cubicBezTo>
                      <a:pt x="14" y="195"/>
                      <a:pt x="28" y="194"/>
                      <a:pt x="38" y="195"/>
                    </a:cubicBezTo>
                    <a:cubicBezTo>
                      <a:pt x="111" y="200"/>
                      <a:pt x="184" y="201"/>
                      <a:pt x="257" y="204"/>
                    </a:cubicBezTo>
                    <a:cubicBezTo>
                      <a:pt x="284" y="285"/>
                      <a:pt x="270" y="375"/>
                      <a:pt x="284" y="460"/>
                    </a:cubicBezTo>
                    <a:cubicBezTo>
                      <a:pt x="288" y="484"/>
                      <a:pt x="313" y="519"/>
                      <a:pt x="339" y="524"/>
                    </a:cubicBezTo>
                    <a:cubicBezTo>
                      <a:pt x="372" y="531"/>
                      <a:pt x="406" y="530"/>
                      <a:pt x="440" y="533"/>
                    </a:cubicBezTo>
                    <a:cubicBezTo>
                      <a:pt x="461" y="566"/>
                      <a:pt x="458" y="550"/>
                      <a:pt x="458" y="579"/>
                    </a:cubicBez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21403200">
                <a:off x="9446400" y="2666880"/>
                <a:ext cx="873000" cy="919080"/>
              </a:xfrm>
              <a:custGeom>
                <a:avLst/>
                <a:gdLst/>
                <a:ahLst/>
                <a:rect l="l" t="t" r="r" b="b"/>
                <a:pathLst>
                  <a:path w="550" h="579">
                    <a:moveTo>
                      <a:pt x="550" y="506"/>
                    </a:moveTo>
                    <a:cubicBezTo>
                      <a:pt x="537" y="470"/>
                      <a:pt x="527" y="454"/>
                      <a:pt x="495" y="433"/>
                    </a:cubicBezTo>
                    <a:cubicBezTo>
                      <a:pt x="467" y="391"/>
                      <a:pt x="439" y="384"/>
                      <a:pt x="422" y="332"/>
                    </a:cubicBezTo>
                    <a:cubicBezTo>
                      <a:pt x="419" y="271"/>
                      <a:pt x="420" y="210"/>
                      <a:pt x="412" y="149"/>
                    </a:cubicBezTo>
                    <a:cubicBezTo>
                      <a:pt x="405" y="98"/>
                      <a:pt x="305" y="62"/>
                      <a:pt x="266" y="49"/>
                    </a:cubicBezTo>
                    <a:cubicBezTo>
                      <a:pt x="197" y="0"/>
                      <a:pt x="171" y="23"/>
                      <a:pt x="65" y="30"/>
                    </a:cubicBezTo>
                    <a:cubicBezTo>
                      <a:pt x="46" y="36"/>
                      <a:pt x="29" y="37"/>
                      <a:pt x="19" y="58"/>
                    </a:cubicBezTo>
                    <a:cubicBezTo>
                      <a:pt x="10" y="75"/>
                      <a:pt x="1" y="113"/>
                      <a:pt x="1" y="113"/>
                    </a:cubicBezTo>
                    <a:cubicBezTo>
                      <a:pt x="4" y="137"/>
                      <a:pt x="0" y="164"/>
                      <a:pt x="10" y="186"/>
                    </a:cubicBezTo>
                    <a:cubicBezTo>
                      <a:pt x="14" y="195"/>
                      <a:pt x="28" y="194"/>
                      <a:pt x="38" y="195"/>
                    </a:cubicBezTo>
                    <a:cubicBezTo>
                      <a:pt x="111" y="200"/>
                      <a:pt x="184" y="201"/>
                      <a:pt x="257" y="204"/>
                    </a:cubicBezTo>
                    <a:cubicBezTo>
                      <a:pt x="284" y="285"/>
                      <a:pt x="270" y="375"/>
                      <a:pt x="284" y="460"/>
                    </a:cubicBezTo>
                    <a:cubicBezTo>
                      <a:pt x="288" y="484"/>
                      <a:pt x="313" y="519"/>
                      <a:pt x="339" y="524"/>
                    </a:cubicBezTo>
                    <a:cubicBezTo>
                      <a:pt x="372" y="531"/>
                      <a:pt x="406" y="530"/>
                      <a:pt x="440" y="533"/>
                    </a:cubicBezTo>
                    <a:cubicBezTo>
                      <a:pt x="461" y="566"/>
                      <a:pt x="458" y="550"/>
                      <a:pt x="458" y="579"/>
                    </a:cubicBez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9143600">
                <a:off x="8700480" y="4311000"/>
                <a:ext cx="872640" cy="919080"/>
              </a:xfrm>
              <a:custGeom>
                <a:avLst/>
                <a:gdLst/>
                <a:ahLst/>
                <a:rect l="l" t="t" r="r" b="b"/>
                <a:pathLst>
                  <a:path w="550" h="579">
                    <a:moveTo>
                      <a:pt x="550" y="506"/>
                    </a:moveTo>
                    <a:cubicBezTo>
                      <a:pt x="537" y="470"/>
                      <a:pt x="527" y="454"/>
                      <a:pt x="495" y="433"/>
                    </a:cubicBezTo>
                    <a:cubicBezTo>
                      <a:pt x="467" y="391"/>
                      <a:pt x="439" y="384"/>
                      <a:pt x="422" y="332"/>
                    </a:cubicBezTo>
                    <a:cubicBezTo>
                      <a:pt x="419" y="271"/>
                      <a:pt x="420" y="210"/>
                      <a:pt x="412" y="149"/>
                    </a:cubicBezTo>
                    <a:cubicBezTo>
                      <a:pt x="405" y="98"/>
                      <a:pt x="305" y="62"/>
                      <a:pt x="266" y="49"/>
                    </a:cubicBezTo>
                    <a:cubicBezTo>
                      <a:pt x="197" y="0"/>
                      <a:pt x="171" y="23"/>
                      <a:pt x="65" y="30"/>
                    </a:cubicBezTo>
                    <a:cubicBezTo>
                      <a:pt x="46" y="36"/>
                      <a:pt x="29" y="37"/>
                      <a:pt x="19" y="58"/>
                    </a:cubicBezTo>
                    <a:cubicBezTo>
                      <a:pt x="10" y="75"/>
                      <a:pt x="1" y="113"/>
                      <a:pt x="1" y="113"/>
                    </a:cubicBezTo>
                    <a:cubicBezTo>
                      <a:pt x="4" y="137"/>
                      <a:pt x="0" y="164"/>
                      <a:pt x="10" y="186"/>
                    </a:cubicBezTo>
                    <a:cubicBezTo>
                      <a:pt x="14" y="195"/>
                      <a:pt x="28" y="194"/>
                      <a:pt x="38" y="195"/>
                    </a:cubicBezTo>
                    <a:cubicBezTo>
                      <a:pt x="111" y="200"/>
                      <a:pt x="184" y="201"/>
                      <a:pt x="257" y="204"/>
                    </a:cubicBezTo>
                    <a:cubicBezTo>
                      <a:pt x="284" y="285"/>
                      <a:pt x="270" y="375"/>
                      <a:pt x="284" y="460"/>
                    </a:cubicBezTo>
                    <a:cubicBezTo>
                      <a:pt x="288" y="484"/>
                      <a:pt x="313" y="519"/>
                      <a:pt x="339" y="524"/>
                    </a:cubicBezTo>
                    <a:cubicBezTo>
                      <a:pt x="372" y="531"/>
                      <a:pt x="406" y="530"/>
                      <a:pt x="440" y="533"/>
                    </a:cubicBezTo>
                    <a:cubicBezTo>
                      <a:pt x="461" y="566"/>
                      <a:pt x="458" y="550"/>
                      <a:pt x="458" y="579"/>
                    </a:cubicBez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 rot="21436200">
                <a:off x="9070200" y="5435280"/>
                <a:ext cx="873000" cy="919080"/>
              </a:xfrm>
              <a:custGeom>
                <a:avLst/>
                <a:gdLst/>
                <a:ahLst/>
                <a:rect l="l" t="t" r="r" b="b"/>
                <a:pathLst>
                  <a:path w="550" h="579">
                    <a:moveTo>
                      <a:pt x="550" y="506"/>
                    </a:moveTo>
                    <a:cubicBezTo>
                      <a:pt x="537" y="470"/>
                      <a:pt x="527" y="454"/>
                      <a:pt x="495" y="433"/>
                    </a:cubicBezTo>
                    <a:cubicBezTo>
                      <a:pt x="467" y="391"/>
                      <a:pt x="439" y="384"/>
                      <a:pt x="422" y="332"/>
                    </a:cubicBezTo>
                    <a:cubicBezTo>
                      <a:pt x="419" y="271"/>
                      <a:pt x="420" y="210"/>
                      <a:pt x="412" y="149"/>
                    </a:cubicBezTo>
                    <a:cubicBezTo>
                      <a:pt x="405" y="98"/>
                      <a:pt x="305" y="62"/>
                      <a:pt x="266" y="49"/>
                    </a:cubicBezTo>
                    <a:cubicBezTo>
                      <a:pt x="197" y="0"/>
                      <a:pt x="171" y="23"/>
                      <a:pt x="65" y="30"/>
                    </a:cubicBezTo>
                    <a:cubicBezTo>
                      <a:pt x="46" y="36"/>
                      <a:pt x="29" y="37"/>
                      <a:pt x="19" y="58"/>
                    </a:cubicBezTo>
                    <a:cubicBezTo>
                      <a:pt x="10" y="75"/>
                      <a:pt x="1" y="113"/>
                      <a:pt x="1" y="113"/>
                    </a:cubicBezTo>
                    <a:cubicBezTo>
                      <a:pt x="4" y="137"/>
                      <a:pt x="0" y="164"/>
                      <a:pt x="10" y="186"/>
                    </a:cubicBezTo>
                    <a:cubicBezTo>
                      <a:pt x="14" y="195"/>
                      <a:pt x="28" y="194"/>
                      <a:pt x="38" y="195"/>
                    </a:cubicBezTo>
                    <a:cubicBezTo>
                      <a:pt x="111" y="200"/>
                      <a:pt x="184" y="201"/>
                      <a:pt x="257" y="204"/>
                    </a:cubicBezTo>
                    <a:cubicBezTo>
                      <a:pt x="284" y="285"/>
                      <a:pt x="270" y="375"/>
                      <a:pt x="284" y="460"/>
                    </a:cubicBezTo>
                    <a:cubicBezTo>
                      <a:pt x="288" y="484"/>
                      <a:pt x="313" y="519"/>
                      <a:pt x="339" y="524"/>
                    </a:cubicBezTo>
                    <a:cubicBezTo>
                      <a:pt x="372" y="531"/>
                      <a:pt x="406" y="530"/>
                      <a:pt x="440" y="533"/>
                    </a:cubicBezTo>
                    <a:cubicBezTo>
                      <a:pt x="461" y="566"/>
                      <a:pt x="458" y="550"/>
                      <a:pt x="458" y="579"/>
                    </a:cubicBez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1402600">
                <a:off x="9099360" y="4287240"/>
                <a:ext cx="914040" cy="1523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8930880" y="3426480"/>
                <a:ext cx="1040760" cy="969840"/>
                <a:chOff x="8930880" y="3426480"/>
                <a:chExt cx="1040760" cy="969840"/>
              </a:xfrm>
            </p:grpSpPr>
            <p:sp>
              <p:nvSpPr>
                <p:cNvPr id="191" name=""/>
                <p:cNvSpPr/>
                <p:nvPr/>
              </p:nvSpPr>
              <p:spPr>
                <a:xfrm rot="21402600">
                  <a:off x="8956080" y="3453840"/>
                  <a:ext cx="990000" cy="914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2" name=""/>
                <p:cNvGrpSpPr/>
                <p:nvPr/>
              </p:nvGrpSpPr>
              <p:grpSpPr>
                <a:xfrm>
                  <a:off x="9088560" y="3682800"/>
                  <a:ext cx="255240" cy="255600"/>
                  <a:chOff x="9088560" y="3682800"/>
                  <a:chExt cx="255240" cy="2556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21162600">
                    <a:off x="9101880" y="3696120"/>
                    <a:ext cx="228240" cy="228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21162600">
                    <a:off x="9102600" y="37814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9375480" y="3647160"/>
                  <a:ext cx="291240" cy="291240"/>
                  <a:chOff x="9375480" y="3647160"/>
                  <a:chExt cx="291240" cy="2912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rot="20439600">
                    <a:off x="9406800" y="3678480"/>
                    <a:ext cx="228240" cy="228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20439600">
                    <a:off x="9410760" y="378000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 rot="21402600">
                  <a:off x="9264960" y="3917520"/>
                  <a:ext cx="152280" cy="1522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1402600">
                  <a:off x="9200520" y="4143600"/>
                  <a:ext cx="380520" cy="88920"/>
                </a:xfrm>
                <a:custGeom>
                  <a:avLst/>
                  <a:gdLst/>
                  <a:ahLst/>
                  <a:rect l="l" t="t" r="r" b="b"/>
                  <a:pathLst>
                    <a:path w="240" h="56">
                      <a:moveTo>
                        <a:pt x="0" y="0"/>
                      </a:moveTo>
                      <a:cubicBezTo>
                        <a:pt x="16" y="20"/>
                        <a:pt x="32" y="40"/>
                        <a:pt x="48" y="48"/>
                      </a:cubicBezTo>
                      <a:cubicBezTo>
                        <a:pt x="64" y="56"/>
                        <a:pt x="80" y="48"/>
                        <a:pt x="96" y="48"/>
                      </a:cubicBezTo>
                      <a:cubicBezTo>
                        <a:pt x="112" y="48"/>
                        <a:pt x="120" y="56"/>
                        <a:pt x="144" y="48"/>
                      </a:cubicBezTo>
                      <a:cubicBezTo>
                        <a:pt x="168" y="40"/>
                        <a:pt x="224" y="0"/>
                        <a:pt x="240" y="0"/>
                      </a:cubicBezTo>
                    </a:path>
                  </a:pathLst>
                </a:custGeom>
                <a:solidFill>
                  <a:srgbClr val="bbe0e3"/>
                </a:solidFill>
                <a:ln w="5724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8457840" y="3885840"/>
                <a:ext cx="850680" cy="1560240"/>
                <a:chOff x="8457840" y="3885840"/>
                <a:chExt cx="850680" cy="156024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8655840" y="4408560"/>
                  <a:ext cx="453240" cy="1037520"/>
                  <a:chOff x="8655840" y="4408560"/>
                  <a:chExt cx="453240" cy="10375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205200">
                    <a:off x="8685000" y="4419000"/>
                    <a:ext cx="393480" cy="10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640">
                        <a:moveTo>
                          <a:pt x="56" y="16"/>
                        </a:moveTo>
                        <a:cubicBezTo>
                          <a:pt x="88" y="8"/>
                          <a:pt x="168" y="0"/>
                          <a:pt x="200" y="16"/>
                        </a:cubicBezTo>
                        <a:cubicBezTo>
                          <a:pt x="232" y="32"/>
                          <a:pt x="248" y="64"/>
                          <a:pt x="248" y="112"/>
                        </a:cubicBezTo>
                        <a:cubicBezTo>
                          <a:pt x="248" y="160"/>
                          <a:pt x="224" y="224"/>
                          <a:pt x="200" y="304"/>
                        </a:cubicBezTo>
                        <a:cubicBezTo>
                          <a:pt x="176" y="384"/>
                          <a:pt x="128" y="544"/>
                          <a:pt x="104" y="592"/>
                        </a:cubicBezTo>
                        <a:cubicBezTo>
                          <a:pt x="80" y="640"/>
                          <a:pt x="64" y="608"/>
                          <a:pt x="56" y="592"/>
                        </a:cubicBezTo>
                        <a:cubicBezTo>
                          <a:pt x="48" y="576"/>
                          <a:pt x="64" y="560"/>
                          <a:pt x="56" y="496"/>
                        </a:cubicBezTo>
                        <a:cubicBezTo>
                          <a:pt x="48" y="432"/>
                          <a:pt x="16" y="280"/>
                          <a:pt x="8" y="208"/>
                        </a:cubicBezTo>
                        <a:cubicBezTo>
                          <a:pt x="0" y="136"/>
                          <a:pt x="0" y="96"/>
                          <a:pt x="8" y="64"/>
                        </a:cubicBezTo>
                        <a:cubicBezTo>
                          <a:pt x="16" y="32"/>
                          <a:pt x="24" y="24"/>
                          <a:pt x="56" y="16"/>
                        </a:cubicBez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>
                    <a:off x="8934480" y="4599720"/>
                    <a:ext cx="15156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8800920" y="4489920"/>
                    <a:ext cx="15156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flipV="1">
                    <a:off x="8715600" y="4637520"/>
                    <a:ext cx="15192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flipV="1">
                    <a:off x="8849880" y="4951080"/>
                    <a:ext cx="75600" cy="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 flipV="1">
                    <a:off x="8787240" y="4718160"/>
                    <a:ext cx="15156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858880" y="4798440"/>
                    <a:ext cx="151560" cy="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flipV="1">
                    <a:off x="8778240" y="4870080"/>
                    <a:ext cx="151560" cy="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flipV="1">
                    <a:off x="8836200" y="5179320"/>
                    <a:ext cx="75600" cy="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flipV="1">
                    <a:off x="8849880" y="4951080"/>
                    <a:ext cx="75600" cy="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flipV="1">
                    <a:off x="8921160" y="5031360"/>
                    <a:ext cx="75960" cy="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flipV="1">
                    <a:off x="8840880" y="5103000"/>
                    <a:ext cx="75240" cy="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8907120" y="52596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flipV="1">
                    <a:off x="8902800" y="5335560"/>
                    <a:ext cx="75960" cy="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8457840" y="3885840"/>
                  <a:ext cx="850680" cy="635040"/>
                </a:xfrm>
                <a:custGeom>
                  <a:avLst/>
                  <a:gdLst/>
                  <a:ahLst/>
                  <a:rect l="l" t="t" r="r" b="b"/>
                  <a:pathLst>
                    <a:path w="536" h="400">
                      <a:moveTo>
                        <a:pt x="296" y="392"/>
                      </a:moveTo>
                      <a:cubicBezTo>
                        <a:pt x="280" y="392"/>
                        <a:pt x="272" y="352"/>
                        <a:pt x="248" y="344"/>
                      </a:cubicBezTo>
                      <a:cubicBezTo>
                        <a:pt x="224" y="336"/>
                        <a:pt x="176" y="336"/>
                        <a:pt x="152" y="344"/>
                      </a:cubicBezTo>
                      <a:cubicBezTo>
                        <a:pt x="128" y="352"/>
                        <a:pt x="120" y="392"/>
                        <a:pt x="104" y="392"/>
                      </a:cubicBezTo>
                      <a:cubicBezTo>
                        <a:pt x="88" y="392"/>
                        <a:pt x="48" y="360"/>
                        <a:pt x="56" y="344"/>
                      </a:cubicBezTo>
                      <a:cubicBezTo>
                        <a:pt x="64" y="328"/>
                        <a:pt x="112" y="296"/>
                        <a:pt x="152" y="296"/>
                      </a:cubicBezTo>
                      <a:cubicBezTo>
                        <a:pt x="192" y="296"/>
                        <a:pt x="280" y="352"/>
                        <a:pt x="296" y="344"/>
                      </a:cubicBezTo>
                      <a:cubicBezTo>
                        <a:pt x="312" y="336"/>
                        <a:pt x="280" y="272"/>
                        <a:pt x="248" y="248"/>
                      </a:cubicBezTo>
                      <a:cubicBezTo>
                        <a:pt x="216" y="224"/>
                        <a:pt x="144" y="200"/>
                        <a:pt x="104" y="200"/>
                      </a:cubicBezTo>
                      <a:cubicBezTo>
                        <a:pt x="64" y="200"/>
                        <a:pt x="16" y="248"/>
                        <a:pt x="8" y="248"/>
                      </a:cubicBezTo>
                      <a:cubicBezTo>
                        <a:pt x="0" y="248"/>
                        <a:pt x="32" y="216"/>
                        <a:pt x="56" y="200"/>
                      </a:cubicBezTo>
                      <a:cubicBezTo>
                        <a:pt x="80" y="184"/>
                        <a:pt x="144" y="160"/>
                        <a:pt x="152" y="152"/>
                      </a:cubicBezTo>
                      <a:cubicBezTo>
                        <a:pt x="160" y="144"/>
                        <a:pt x="112" y="160"/>
                        <a:pt x="104" y="152"/>
                      </a:cubicBezTo>
                      <a:cubicBezTo>
                        <a:pt x="96" y="144"/>
                        <a:pt x="112" y="112"/>
                        <a:pt x="104" y="104"/>
                      </a:cubicBezTo>
                      <a:cubicBezTo>
                        <a:pt x="96" y="96"/>
                        <a:pt x="56" y="112"/>
                        <a:pt x="56" y="104"/>
                      </a:cubicBezTo>
                      <a:cubicBezTo>
                        <a:pt x="56" y="96"/>
                        <a:pt x="96" y="56"/>
                        <a:pt x="104" y="56"/>
                      </a:cubicBezTo>
                      <a:cubicBezTo>
                        <a:pt x="112" y="56"/>
                        <a:pt x="96" y="88"/>
                        <a:pt x="104" y="104"/>
                      </a:cubicBezTo>
                      <a:cubicBezTo>
                        <a:pt x="112" y="120"/>
                        <a:pt x="136" y="136"/>
                        <a:pt x="152" y="152"/>
                      </a:cubicBezTo>
                      <a:cubicBezTo>
                        <a:pt x="168" y="168"/>
                        <a:pt x="176" y="184"/>
                        <a:pt x="200" y="200"/>
                      </a:cubicBezTo>
                      <a:cubicBezTo>
                        <a:pt x="224" y="216"/>
                        <a:pt x="280" y="232"/>
                        <a:pt x="296" y="248"/>
                      </a:cubicBezTo>
                      <a:cubicBezTo>
                        <a:pt x="312" y="264"/>
                        <a:pt x="296" y="280"/>
                        <a:pt x="296" y="296"/>
                      </a:cubicBezTo>
                      <a:cubicBezTo>
                        <a:pt x="296" y="312"/>
                        <a:pt x="288" y="352"/>
                        <a:pt x="296" y="344"/>
                      </a:cubicBezTo>
                      <a:cubicBezTo>
                        <a:pt x="304" y="336"/>
                        <a:pt x="344" y="288"/>
                        <a:pt x="344" y="248"/>
                      </a:cubicBezTo>
                      <a:cubicBezTo>
                        <a:pt x="344" y="208"/>
                        <a:pt x="320" y="136"/>
                        <a:pt x="296" y="104"/>
                      </a:cubicBezTo>
                      <a:cubicBezTo>
                        <a:pt x="272" y="72"/>
                        <a:pt x="208" y="72"/>
                        <a:pt x="200" y="56"/>
                      </a:cubicBezTo>
                      <a:cubicBezTo>
                        <a:pt x="192" y="40"/>
                        <a:pt x="232" y="8"/>
                        <a:pt x="248" y="8"/>
                      </a:cubicBezTo>
                      <a:cubicBezTo>
                        <a:pt x="264" y="8"/>
                        <a:pt x="280" y="56"/>
                        <a:pt x="296" y="56"/>
                      </a:cubicBezTo>
                      <a:cubicBezTo>
                        <a:pt x="312" y="56"/>
                        <a:pt x="336" y="0"/>
                        <a:pt x="344" y="8"/>
                      </a:cubicBezTo>
                      <a:cubicBezTo>
                        <a:pt x="352" y="16"/>
                        <a:pt x="344" y="72"/>
                        <a:pt x="344" y="104"/>
                      </a:cubicBezTo>
                      <a:cubicBezTo>
                        <a:pt x="344" y="136"/>
                        <a:pt x="344" y="176"/>
                        <a:pt x="344" y="200"/>
                      </a:cubicBezTo>
                      <a:cubicBezTo>
                        <a:pt x="344" y="224"/>
                        <a:pt x="336" y="248"/>
                        <a:pt x="344" y="248"/>
                      </a:cubicBezTo>
                      <a:cubicBezTo>
                        <a:pt x="352" y="248"/>
                        <a:pt x="368" y="208"/>
                        <a:pt x="392" y="200"/>
                      </a:cubicBezTo>
                      <a:cubicBezTo>
                        <a:pt x="416" y="192"/>
                        <a:pt x="480" y="192"/>
                        <a:pt x="488" y="200"/>
                      </a:cubicBezTo>
                      <a:cubicBezTo>
                        <a:pt x="496" y="208"/>
                        <a:pt x="456" y="232"/>
                        <a:pt x="440" y="248"/>
                      </a:cubicBezTo>
                      <a:cubicBezTo>
                        <a:pt x="424" y="264"/>
                        <a:pt x="376" y="288"/>
                        <a:pt x="392" y="296"/>
                      </a:cubicBezTo>
                      <a:cubicBezTo>
                        <a:pt x="408" y="304"/>
                        <a:pt x="536" y="280"/>
                        <a:pt x="536" y="296"/>
                      </a:cubicBezTo>
                      <a:cubicBezTo>
                        <a:pt x="536" y="312"/>
                        <a:pt x="416" y="384"/>
                        <a:pt x="392" y="392"/>
                      </a:cubicBezTo>
                      <a:cubicBezTo>
                        <a:pt x="368" y="400"/>
                        <a:pt x="400" y="352"/>
                        <a:pt x="392" y="344"/>
                      </a:cubicBezTo>
                      <a:cubicBezTo>
                        <a:pt x="384" y="336"/>
                        <a:pt x="360" y="336"/>
                        <a:pt x="344" y="344"/>
                      </a:cubicBezTo>
                      <a:cubicBezTo>
                        <a:pt x="328" y="352"/>
                        <a:pt x="312" y="392"/>
                        <a:pt x="296" y="392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 flipH="1" flipV="1" rot="20718000">
                <a:off x="8857080" y="4610520"/>
                <a:ext cx="761760" cy="482400"/>
              </a:xfrm>
              <a:custGeom>
                <a:avLst/>
                <a:gdLst/>
                <a:ahLst/>
                <a:rect l="l" t="t" r="r" b="b"/>
                <a:pathLst>
                  <a:path w="352" h="208">
                    <a:moveTo>
                      <a:pt x="352" y="112"/>
                    </a:moveTo>
                    <a:cubicBezTo>
                      <a:pt x="352" y="88"/>
                      <a:pt x="328" y="32"/>
                      <a:pt x="304" y="16"/>
                    </a:cubicBezTo>
                    <a:cubicBezTo>
                      <a:pt x="280" y="0"/>
                      <a:pt x="240" y="8"/>
                      <a:pt x="208" y="16"/>
                    </a:cubicBezTo>
                    <a:cubicBezTo>
                      <a:pt x="176" y="24"/>
                      <a:pt x="144" y="48"/>
                      <a:pt x="112" y="64"/>
                    </a:cubicBezTo>
                    <a:cubicBezTo>
                      <a:pt x="80" y="80"/>
                      <a:pt x="32" y="96"/>
                      <a:pt x="16" y="112"/>
                    </a:cubicBezTo>
                    <a:cubicBezTo>
                      <a:pt x="0" y="128"/>
                      <a:pt x="8" y="144"/>
                      <a:pt x="16" y="160"/>
                    </a:cubicBezTo>
                    <a:cubicBezTo>
                      <a:pt x="24" y="176"/>
                      <a:pt x="48" y="208"/>
                      <a:pt x="64" y="208"/>
                    </a:cubicBezTo>
                    <a:cubicBezTo>
                      <a:pt x="80" y="208"/>
                      <a:pt x="88" y="176"/>
                      <a:pt x="112" y="160"/>
                    </a:cubicBezTo>
                    <a:cubicBezTo>
                      <a:pt x="136" y="144"/>
                      <a:pt x="176" y="112"/>
                      <a:pt x="208" y="112"/>
                    </a:cubicBezTo>
                    <a:cubicBezTo>
                      <a:pt x="240" y="112"/>
                      <a:pt x="280" y="160"/>
                      <a:pt x="304" y="160"/>
                    </a:cubicBezTo>
                    <a:cubicBezTo>
                      <a:pt x="328" y="160"/>
                      <a:pt x="352" y="136"/>
                      <a:pt x="352" y="1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667 0.08878 C 0.60903 0.07953 0.60139 0.07028 0.59167 0.05549 C 0.58194 0.04069 0.56944 0.00924 0.55833 2.60116E-006 C 0.54722 -0.00925 0.54167 -0.0074 0.525 2.60116E-006 C 0.50833 0.00739 0.475 0.03699 0.45833 0.04439 C 0.44167 0.05179 0.4375 0.04809 0.425 0.04439 C 0.4125 0.04069 0.39583 0.02774 0.38333 0.02219 C 0.37083 0.01664 0.3625 0.01294 0.35 0.01109 C 0.3375 0.00924 0.325 0.00924 0.30833 0.01109 C 0.29167 0.01294 0.2625 0.02404 0.25 0.02219 C 0.2375 0.02034 0.23889 0.00739 0.23333 2.60116E-006 C 0.22778 -0.0074 0.225 -0.01665 0.21667 -0.0222 C 0.20833 -0.02775 0.20139 -0.0333 0.18333 -0.0333 C 0.16528 -0.0333 0.13056 -0.02775 0.10833 -0.0222 C 0.08611 -0.01665 0.06667 -0.00925 0.05 2.60116E-006 C 0.03333 0.00924 0.01667 0.03329 0.00833 0.03329 C -3.33333000000075E-006 0.03329 -0.00278 0.00739 -3.33333E-006 2.60116E-006 E">
                                      <p:cBhvr>
                                        <p:cTn id="9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556E-017 -0.05549 C 0.02153 -0.05457 0.04306 -0.05364 0.05833 -0.05549 C 0.07361 -0.05734 0.07917 -0.06474 0.09167 -0.06659 C 0.10417 -0.06844 0.12066 -0.06844 0.13316 -0.06659 C 0.14549 -0.06474 0.15799 -0.05364 0.16667 -0.05549 C 0.175 -0.05734 0.17778 -0.06659 0.18333 -0.07769 C 0.18889 -0.08879 0.19306 -0.11653 0.2 -0.12208 C 0.20694 -0.12763 0.21528 -0.11284 0.225 -0.11099 C 0.23472 -0.10914 0.24167 -0.11653 0.25833 -0.11099 C 0.275 -0.10544 0.30833 -0.08324 0.325 -0.07769 C 0.34149 -0.07214 0.34583 -0.06844 0.35833 -0.07769 C 0.37083 -0.08694 0.38611 -0.12578 0.4 -0.13318 C 0.41372 -0.14058 0.42622 -0.13133 0.44149 -0.12208 C 0.45677 -0.11284 0.47778 -0.08324 0.49149 -0.07769 C 0.50556 -0.07214 0.51111 -0.07399 0.525 -0.08879 C 0.53889 -0.10359 0.5625 -0.14243 0.575 -0.16648 C 0.5875 -0.19052 0.59028 -0.20532 0.6 -0.23307 C 0.60972 -0.26081 0.62778 -0.30151 0.63333 -0.33295 C 0.63889 -0.3644 0.64306 -0.39399 0.63333 -0.42174 C 0.62361 -0.44948 0.60556 -0.48648 0.575 -0.49942 C 0.54444 -0.51237 0.48177 -0.51422 0.45 -0.49942 C 0.41806 -0.48463 0.38472 -0.44578 0.38333 -0.41064 C 0.38177 -0.37549 0.41111 -0.30336 0.44149 -0.28856 C 0.47222 -0.27376 0.54028 -0.30521 0.56667 -0.32185 C 0.59306 -0.3385 0.59861 -0.36995 0.6 -0.38844 C 0.60139 -0.40694 0.59861 -0.42729 0.575 -0.43284 C 0.55139 -0.43838 0.48872 -0.43838 0.45833 -0.42174 C 0.42778 -0.40509 0.39149 -0.36625 0.39149 -0.33295 C 0.39149 -0.29966 0.42778 -0.24232 0.45833 -0.22197 C 0.48872 -0.20162 0.54028 -0.21457 0.575 -0.21087 C 0.60972 -0.20717 0.64444 -0.19422 0.66667 -0.19977 C 0.68889 -0.20532 0.70417 -0.22197 0.70833 -0.24416 C 0.7125 -0.26636 0.70694 -0.31445 0.69167 -0.33295 C 0.67639 -0.35145 0.65 -0.3533 0.61667 -0.35515 C 0.58333 -0.357 0.52639 -0.35145 0.49149 -0.34405 C 0.45677 -0.33665 0.43333 -0.3274 0.40833 -0.31075 C 0.38333 -0.29411 0.36528 -0.25896 0.34149 -0.24416 C 0.31806 -0.22937 0.29028 -0.21457 0.26667 -0.22197 C 0.24306 -0.22937 0.22083 -0.27191 0.2 -0.28856 C 0.17917 -0.30521 0.16806 -0.3126 0.14167 -0.32185 C 0.11528 -0.3311 0.06667 -0.35885 0.04167 -0.34405 C 0.01667 -0.32925 0.01111 -0.27006 -0.00833 -0.23307 C -0.02778 -0.19607 -0.06389 -0.14983 -0.075 -0.12208 C -0.08611 -0.09434 -0.0875 -0.08694 -0.075 -0.06659 C -0.0625 -0.04625 -0.01806 0.01295 2.77556E-017 2.89017E-006 E">
                                      <p:cBhvr>
                                        <p:cTn id="105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509 C -0.02969 -0.05665 -0.05955 -0.10821 -0.07587 -0.12763 C -0.09219 -0.14705 -0.0875 -0.13017 -0.09809 -0.12139 C -0.10868 -0.1126 -0.12934 -0.08717 -0.13941 -0.07491 C -0.14948 -0.06266 -0.14809 -0.04601 -0.15833 -0.0474 C -0.16858 -0.04879 -0.19254 -0.06382 -0.20122 -0.08324 C -0.2099 -0.10266 -0.2033 -0.15885 -0.21076 -0.1637 C -0.21823 -0.16856 -0.23906 -0.13041 -0.24566 -0.11283 C -0.25226 -0.09526 -0.24201 -0.07468 -0.25052 -0.0578 C -0.25903 -0.04093 -0.28385 -0.00671 -0.29653 -0.01133 C -0.3092 -0.01596 -0.32014 -0.08578 -0.32674 -0.08532 C -0.33333 -0.08486 -0.33924 -0.02127 -0.33611 -0.00925 E">
                                      <p:cBhvr>
                                        <p:cTn id="113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3f4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2666880" y="2057400"/>
            <a:ext cx="3809880" cy="4266720"/>
            <a:chOff x="2666880" y="2057400"/>
            <a:chExt cx="3809880" cy="4266720"/>
          </a:xfrm>
        </p:grpSpPr>
        <p:grpSp>
          <p:nvGrpSpPr>
            <p:cNvPr id="219" name=""/>
            <p:cNvGrpSpPr/>
            <p:nvPr/>
          </p:nvGrpSpPr>
          <p:grpSpPr>
            <a:xfrm>
              <a:off x="3200400" y="2209680"/>
              <a:ext cx="2933640" cy="4114440"/>
              <a:chOff x="3200400" y="2209680"/>
              <a:chExt cx="2933640" cy="4114440"/>
            </a:xfrm>
          </p:grpSpPr>
          <p:sp>
            <p:nvSpPr>
              <p:cNvPr id="220" name=""/>
              <p:cNvSpPr/>
              <p:nvPr/>
            </p:nvSpPr>
            <p:spPr>
              <a:xfrm>
                <a:off x="4343400" y="2209680"/>
                <a:ext cx="685800" cy="4114440"/>
              </a:xfrm>
              <a:custGeom>
                <a:avLst/>
                <a:gdLst/>
                <a:ahLst/>
                <a:rect l="l" t="t" r="r" b="b"/>
                <a:pathLst>
                  <a:path w="432" h="2592">
                    <a:moveTo>
                      <a:pt x="240" y="2592"/>
                    </a:moveTo>
                    <a:cubicBezTo>
                      <a:pt x="300" y="2496"/>
                      <a:pt x="360" y="2400"/>
                      <a:pt x="384" y="2304"/>
                    </a:cubicBezTo>
                    <a:cubicBezTo>
                      <a:pt x="408" y="2208"/>
                      <a:pt x="432" y="2112"/>
                      <a:pt x="384" y="2016"/>
                    </a:cubicBezTo>
                    <a:cubicBezTo>
                      <a:pt x="336" y="1920"/>
                      <a:pt x="136" y="1856"/>
                      <a:pt x="96" y="1728"/>
                    </a:cubicBezTo>
                    <a:cubicBezTo>
                      <a:pt x="56" y="1600"/>
                      <a:pt x="120" y="1376"/>
                      <a:pt x="144" y="1248"/>
                    </a:cubicBezTo>
                    <a:cubicBezTo>
                      <a:pt x="168" y="1120"/>
                      <a:pt x="248" y="1072"/>
                      <a:pt x="240" y="960"/>
                    </a:cubicBezTo>
                    <a:cubicBezTo>
                      <a:pt x="232" y="848"/>
                      <a:pt x="136" y="696"/>
                      <a:pt x="96" y="576"/>
                    </a:cubicBezTo>
                    <a:cubicBezTo>
                      <a:pt x="56" y="456"/>
                      <a:pt x="0" y="336"/>
                      <a:pt x="0" y="240"/>
                    </a:cubicBezTo>
                    <a:cubicBezTo>
                      <a:pt x="0" y="144"/>
                      <a:pt x="280" y="96"/>
                      <a:pt x="96" y="0"/>
                    </a:cubicBezTo>
                  </a:path>
                </a:pathLst>
              </a:custGeom>
              <a:noFill/>
              <a:ln w="57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00400" y="2742480"/>
                <a:ext cx="1371600" cy="1295280"/>
              </a:xfrm>
              <a:custGeom>
                <a:avLst/>
                <a:gdLst/>
                <a:ahLst/>
                <a:rect l="l" t="t" r="r" b="b"/>
                <a:pathLst>
                  <a:path w="864" h="816">
                    <a:moveTo>
                      <a:pt x="0" y="0"/>
                    </a:moveTo>
                    <a:cubicBezTo>
                      <a:pt x="76" y="48"/>
                      <a:pt x="152" y="96"/>
                      <a:pt x="240" y="144"/>
                    </a:cubicBezTo>
                    <a:cubicBezTo>
                      <a:pt x="328" y="192"/>
                      <a:pt x="504" y="208"/>
                      <a:pt x="528" y="288"/>
                    </a:cubicBezTo>
                    <a:cubicBezTo>
                      <a:pt x="552" y="368"/>
                      <a:pt x="328" y="536"/>
                      <a:pt x="384" y="624"/>
                    </a:cubicBezTo>
                    <a:cubicBezTo>
                      <a:pt x="440" y="712"/>
                      <a:pt x="696" y="728"/>
                      <a:pt x="864" y="816"/>
                    </a:cubicBezTo>
                  </a:path>
                </a:pathLst>
              </a:custGeom>
              <a:noFill/>
              <a:ln w="57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19360" y="2666520"/>
                <a:ext cx="1282680" cy="1841040"/>
              </a:xfrm>
              <a:custGeom>
                <a:avLst/>
                <a:gdLst/>
                <a:ahLst/>
                <a:rect l="l" t="t" r="r" b="b"/>
                <a:pathLst>
                  <a:path w="808" h="1160">
                    <a:moveTo>
                      <a:pt x="808" y="0"/>
                    </a:moveTo>
                    <a:cubicBezTo>
                      <a:pt x="724" y="60"/>
                      <a:pt x="640" y="120"/>
                      <a:pt x="568" y="192"/>
                    </a:cubicBezTo>
                    <a:cubicBezTo>
                      <a:pt x="496" y="264"/>
                      <a:pt x="376" y="336"/>
                      <a:pt x="376" y="432"/>
                    </a:cubicBezTo>
                    <a:cubicBezTo>
                      <a:pt x="376" y="528"/>
                      <a:pt x="552" y="656"/>
                      <a:pt x="568" y="768"/>
                    </a:cubicBezTo>
                    <a:cubicBezTo>
                      <a:pt x="584" y="880"/>
                      <a:pt x="552" y="1048"/>
                      <a:pt x="472" y="1104"/>
                    </a:cubicBezTo>
                    <a:cubicBezTo>
                      <a:pt x="392" y="1160"/>
                      <a:pt x="0" y="1024"/>
                      <a:pt x="88" y="1104"/>
                    </a:cubicBezTo>
                  </a:path>
                </a:pathLst>
              </a:custGeom>
              <a:noFill/>
              <a:ln w="57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44640" y="2285280"/>
                <a:ext cx="559080" cy="761760"/>
              </a:xfrm>
              <a:custGeom>
                <a:avLst/>
                <a:gdLst/>
                <a:ahLst/>
                <a:rect l="l" t="t" r="r" b="b"/>
                <a:pathLst>
                  <a:path w="352" h="480">
                    <a:moveTo>
                      <a:pt x="248" y="0"/>
                    </a:moveTo>
                    <a:cubicBezTo>
                      <a:pt x="300" y="112"/>
                      <a:pt x="352" y="224"/>
                      <a:pt x="344" y="288"/>
                    </a:cubicBezTo>
                    <a:cubicBezTo>
                      <a:pt x="336" y="352"/>
                      <a:pt x="224" y="352"/>
                      <a:pt x="200" y="384"/>
                    </a:cubicBezTo>
                    <a:cubicBezTo>
                      <a:pt x="176" y="416"/>
                      <a:pt x="0" y="368"/>
                      <a:pt x="200" y="480"/>
                    </a:cubicBezTo>
                  </a:path>
                </a:pathLst>
              </a:custGeom>
              <a:noFill/>
              <a:ln w="57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33760" y="2895120"/>
                <a:ext cx="800280" cy="914040"/>
              </a:xfrm>
              <a:custGeom>
                <a:avLst/>
                <a:gdLst/>
                <a:ahLst/>
                <a:rect l="l" t="t" r="r" b="b"/>
                <a:pathLst>
                  <a:path w="504" h="576">
                    <a:moveTo>
                      <a:pt x="0" y="576"/>
                    </a:moveTo>
                    <a:cubicBezTo>
                      <a:pt x="92" y="556"/>
                      <a:pt x="184" y="536"/>
                      <a:pt x="240" y="480"/>
                    </a:cubicBezTo>
                    <a:cubicBezTo>
                      <a:pt x="296" y="424"/>
                      <a:pt x="296" y="280"/>
                      <a:pt x="336" y="240"/>
                    </a:cubicBezTo>
                    <a:cubicBezTo>
                      <a:pt x="376" y="200"/>
                      <a:pt x="456" y="280"/>
                      <a:pt x="480" y="240"/>
                    </a:cubicBezTo>
                    <a:cubicBezTo>
                      <a:pt x="504" y="200"/>
                      <a:pt x="492" y="100"/>
                      <a:pt x="480" y="0"/>
                    </a:cubicBezTo>
                  </a:path>
                </a:pathLst>
              </a:custGeom>
              <a:noFill/>
              <a:ln w="57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2666880" y="2057400"/>
              <a:ext cx="3809880" cy="2590560"/>
            </a:xfrm>
            <a:prstGeom prst="cloudCallout">
              <a:avLst>
                <a:gd name="adj1" fmla="val 17041"/>
                <a:gd name="adj2" fmla="val -6925"/>
              </a:avLst>
            </a:prstGeom>
            <a:solidFill>
              <a:srgbClr val="99cc00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676520" y="1447920"/>
            <a:ext cx="5943600" cy="3352680"/>
            <a:chOff x="1676520" y="1447920"/>
            <a:chExt cx="5943600" cy="3352680"/>
          </a:xfrm>
        </p:grpSpPr>
        <p:sp>
          <p:nvSpPr>
            <p:cNvPr id="227" name=""/>
            <p:cNvSpPr/>
            <p:nvPr/>
          </p:nvSpPr>
          <p:spPr>
            <a:xfrm>
              <a:off x="6629400" y="1447920"/>
              <a:ext cx="152280" cy="380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676520" y="1600200"/>
              <a:ext cx="5943600" cy="3200400"/>
              <a:chOff x="1676520" y="1600200"/>
              <a:chExt cx="5943600" cy="3200400"/>
            </a:xfrm>
          </p:grpSpPr>
          <p:sp>
            <p:nvSpPr>
              <p:cNvPr id="229" name=""/>
              <p:cNvSpPr/>
              <p:nvPr/>
            </p:nvSpPr>
            <p:spPr>
              <a:xfrm>
                <a:off x="2362320" y="1981080"/>
                <a:ext cx="15228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14600" y="2666880"/>
                <a:ext cx="15228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33720" y="297180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05120" y="213372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676520" y="3124080"/>
                <a:ext cx="15228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76720" y="205740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19520" y="2209680"/>
                <a:ext cx="15228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90920" y="320040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38480" y="1752480"/>
                <a:ext cx="15264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81280" y="190512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352680" y="2895480"/>
                <a:ext cx="15264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76720" y="205740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33920" y="259092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24080" y="320040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38480" y="365760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419720" y="3352680"/>
                <a:ext cx="15228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09880" y="396252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9880" y="1981080"/>
                <a:ext cx="15264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495680" y="274320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76920" y="2438280"/>
                <a:ext cx="15228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67080" y="304812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191120" y="2666880"/>
                <a:ext cx="15228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09880" y="320040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52680" y="350532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09880" y="3809880"/>
                <a:ext cx="15264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90920" y="396252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209680" y="4267080"/>
                <a:ext cx="15264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752480" y="4419720"/>
                <a:ext cx="1526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95480" y="350532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29000" y="419112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2880" y="167652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05520" y="236232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4280" y="2666880"/>
                <a:ext cx="15264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95680" y="182880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67080" y="281952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67280" y="1752480"/>
                <a:ext cx="15264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0080" y="190512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81480" y="2895480"/>
                <a:ext cx="15264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72200" y="160020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943600" y="259092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67280" y="1752480"/>
                <a:ext cx="15264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24480" y="228600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15000" y="2895480"/>
                <a:ext cx="15228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629400" y="3352680"/>
                <a:ext cx="15228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10280" y="304812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400800" y="365760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00800" y="167652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86600" y="2438280"/>
                <a:ext cx="15228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67480" y="213372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58000" y="274320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81680" y="236232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00800" y="2895480"/>
                <a:ext cx="152280" cy="38124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43600" y="320040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00800" y="350532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81480" y="3657600"/>
                <a:ext cx="15264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00600" y="396252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43400" y="411480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86400" y="320040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019920" y="3886200"/>
                <a:ext cx="152280" cy="380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-358560" y="4976280"/>
            <a:ext cx="9835920" cy="2163240"/>
            <a:chOff x="-358560" y="4976280"/>
            <a:chExt cx="9835920" cy="2163240"/>
          </a:xfrm>
        </p:grpSpPr>
        <p:sp>
          <p:nvSpPr>
            <p:cNvPr id="289" name=""/>
            <p:cNvSpPr/>
            <p:nvPr/>
          </p:nvSpPr>
          <p:spPr>
            <a:xfrm rot="208800">
              <a:off x="-304560" y="5105520"/>
              <a:ext cx="4318200" cy="1904760"/>
            </a:xfrm>
            <a:custGeom>
              <a:avLst/>
              <a:gdLst/>
              <a:ahLst/>
              <a:rect l="l" t="t" r="r" b="b"/>
              <a:pathLst>
                <a:path w="2720" h="656">
                  <a:moveTo>
                    <a:pt x="328" y="488"/>
                  </a:moveTo>
                  <a:cubicBezTo>
                    <a:pt x="324" y="372"/>
                    <a:pt x="320" y="256"/>
                    <a:pt x="328" y="248"/>
                  </a:cubicBezTo>
                  <a:cubicBezTo>
                    <a:pt x="336" y="240"/>
                    <a:pt x="360" y="448"/>
                    <a:pt x="376" y="440"/>
                  </a:cubicBezTo>
                  <a:cubicBezTo>
                    <a:pt x="392" y="432"/>
                    <a:pt x="416" y="192"/>
                    <a:pt x="424" y="200"/>
                  </a:cubicBezTo>
                  <a:cubicBezTo>
                    <a:pt x="432" y="208"/>
                    <a:pt x="408" y="456"/>
                    <a:pt x="424" y="488"/>
                  </a:cubicBezTo>
                  <a:cubicBezTo>
                    <a:pt x="440" y="520"/>
                    <a:pt x="496" y="400"/>
                    <a:pt x="520" y="392"/>
                  </a:cubicBezTo>
                  <a:cubicBezTo>
                    <a:pt x="544" y="384"/>
                    <a:pt x="552" y="472"/>
                    <a:pt x="568" y="440"/>
                  </a:cubicBezTo>
                  <a:cubicBezTo>
                    <a:pt x="584" y="408"/>
                    <a:pt x="592" y="192"/>
                    <a:pt x="616" y="200"/>
                  </a:cubicBezTo>
                  <a:cubicBezTo>
                    <a:pt x="640" y="208"/>
                    <a:pt x="672" y="488"/>
                    <a:pt x="712" y="488"/>
                  </a:cubicBezTo>
                  <a:cubicBezTo>
                    <a:pt x="752" y="488"/>
                    <a:pt x="824" y="208"/>
                    <a:pt x="856" y="200"/>
                  </a:cubicBezTo>
                  <a:cubicBezTo>
                    <a:pt x="888" y="192"/>
                    <a:pt x="888" y="432"/>
                    <a:pt x="904" y="440"/>
                  </a:cubicBezTo>
                  <a:cubicBezTo>
                    <a:pt x="920" y="448"/>
                    <a:pt x="944" y="256"/>
                    <a:pt x="952" y="248"/>
                  </a:cubicBezTo>
                  <a:cubicBezTo>
                    <a:pt x="960" y="240"/>
                    <a:pt x="936" y="432"/>
                    <a:pt x="952" y="392"/>
                  </a:cubicBezTo>
                  <a:cubicBezTo>
                    <a:pt x="968" y="352"/>
                    <a:pt x="1032" y="0"/>
                    <a:pt x="1048" y="8"/>
                  </a:cubicBezTo>
                  <a:cubicBezTo>
                    <a:pt x="1064" y="16"/>
                    <a:pt x="1032" y="392"/>
                    <a:pt x="1048" y="440"/>
                  </a:cubicBezTo>
                  <a:cubicBezTo>
                    <a:pt x="1064" y="488"/>
                    <a:pt x="1128" y="304"/>
                    <a:pt x="1144" y="296"/>
                  </a:cubicBezTo>
                  <a:cubicBezTo>
                    <a:pt x="1160" y="288"/>
                    <a:pt x="1136" y="392"/>
                    <a:pt x="1144" y="392"/>
                  </a:cubicBezTo>
                  <a:cubicBezTo>
                    <a:pt x="1152" y="392"/>
                    <a:pt x="1184" y="288"/>
                    <a:pt x="1192" y="296"/>
                  </a:cubicBezTo>
                  <a:cubicBezTo>
                    <a:pt x="1200" y="304"/>
                    <a:pt x="1168" y="464"/>
                    <a:pt x="1192" y="440"/>
                  </a:cubicBezTo>
                  <a:cubicBezTo>
                    <a:pt x="1216" y="416"/>
                    <a:pt x="1312" y="152"/>
                    <a:pt x="1336" y="152"/>
                  </a:cubicBezTo>
                  <a:cubicBezTo>
                    <a:pt x="1360" y="152"/>
                    <a:pt x="1328" y="464"/>
                    <a:pt x="1336" y="440"/>
                  </a:cubicBezTo>
                  <a:cubicBezTo>
                    <a:pt x="1344" y="416"/>
                    <a:pt x="1376" y="16"/>
                    <a:pt x="1384" y="8"/>
                  </a:cubicBezTo>
                  <a:cubicBezTo>
                    <a:pt x="1392" y="0"/>
                    <a:pt x="1360" y="392"/>
                    <a:pt x="1384" y="392"/>
                  </a:cubicBezTo>
                  <a:cubicBezTo>
                    <a:pt x="1408" y="392"/>
                    <a:pt x="1504" y="8"/>
                    <a:pt x="1528" y="8"/>
                  </a:cubicBezTo>
                  <a:cubicBezTo>
                    <a:pt x="1552" y="8"/>
                    <a:pt x="1512" y="352"/>
                    <a:pt x="1528" y="392"/>
                  </a:cubicBezTo>
                  <a:cubicBezTo>
                    <a:pt x="1544" y="432"/>
                    <a:pt x="1600" y="288"/>
                    <a:pt x="1624" y="248"/>
                  </a:cubicBezTo>
                  <a:cubicBezTo>
                    <a:pt x="1648" y="208"/>
                    <a:pt x="1656" y="128"/>
                    <a:pt x="1672" y="152"/>
                  </a:cubicBezTo>
                  <a:cubicBezTo>
                    <a:pt x="1688" y="176"/>
                    <a:pt x="1696" y="400"/>
                    <a:pt x="1720" y="392"/>
                  </a:cubicBezTo>
                  <a:cubicBezTo>
                    <a:pt x="1744" y="384"/>
                    <a:pt x="1800" y="104"/>
                    <a:pt x="1816" y="104"/>
                  </a:cubicBezTo>
                  <a:cubicBezTo>
                    <a:pt x="1832" y="104"/>
                    <a:pt x="1792" y="384"/>
                    <a:pt x="1816" y="392"/>
                  </a:cubicBezTo>
                  <a:cubicBezTo>
                    <a:pt x="1840" y="400"/>
                    <a:pt x="1936" y="152"/>
                    <a:pt x="1960" y="152"/>
                  </a:cubicBezTo>
                  <a:cubicBezTo>
                    <a:pt x="1984" y="152"/>
                    <a:pt x="1928" y="400"/>
                    <a:pt x="1960" y="392"/>
                  </a:cubicBezTo>
                  <a:cubicBezTo>
                    <a:pt x="1992" y="384"/>
                    <a:pt x="2120" y="96"/>
                    <a:pt x="2152" y="104"/>
                  </a:cubicBezTo>
                  <a:cubicBezTo>
                    <a:pt x="2184" y="112"/>
                    <a:pt x="2128" y="448"/>
                    <a:pt x="2152" y="440"/>
                  </a:cubicBezTo>
                  <a:cubicBezTo>
                    <a:pt x="2176" y="432"/>
                    <a:pt x="2256" y="48"/>
                    <a:pt x="2296" y="56"/>
                  </a:cubicBezTo>
                  <a:cubicBezTo>
                    <a:pt x="2336" y="64"/>
                    <a:pt x="2720" y="392"/>
                    <a:pt x="2392" y="488"/>
                  </a:cubicBezTo>
                  <a:cubicBezTo>
                    <a:pt x="2064" y="584"/>
                    <a:pt x="656" y="656"/>
                    <a:pt x="328" y="632"/>
                  </a:cubicBezTo>
                  <a:cubicBezTo>
                    <a:pt x="0" y="608"/>
                    <a:pt x="352" y="416"/>
                    <a:pt x="424" y="344"/>
                  </a:cubicBezTo>
                </a:path>
              </a:pathLst>
            </a:custGeom>
            <a:solidFill>
              <a:srgbClr val="8ec000"/>
            </a:solidFill>
            <a:ln w="9360">
              <a:solidFill>
                <a:srgbClr val="85b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2841840" y="4976280"/>
              <a:ext cx="6635520" cy="2162880"/>
              <a:chOff x="2841840" y="4976280"/>
              <a:chExt cx="6635520" cy="2162880"/>
            </a:xfrm>
          </p:grpSpPr>
          <p:sp>
            <p:nvSpPr>
              <p:cNvPr id="291" name=""/>
              <p:cNvSpPr/>
              <p:nvPr/>
            </p:nvSpPr>
            <p:spPr>
              <a:xfrm rot="208800">
                <a:off x="2895480" y="5105520"/>
                <a:ext cx="4318200" cy="1904400"/>
              </a:xfrm>
              <a:custGeom>
                <a:avLst/>
                <a:gdLst/>
                <a:ahLst/>
                <a:rect l="l" t="t" r="r" b="b"/>
                <a:pathLst>
                  <a:path w="2720" h="656">
                    <a:moveTo>
                      <a:pt x="328" y="488"/>
                    </a:moveTo>
                    <a:cubicBezTo>
                      <a:pt x="324" y="372"/>
                      <a:pt x="320" y="256"/>
                      <a:pt x="328" y="248"/>
                    </a:cubicBezTo>
                    <a:cubicBezTo>
                      <a:pt x="336" y="240"/>
                      <a:pt x="360" y="448"/>
                      <a:pt x="376" y="440"/>
                    </a:cubicBezTo>
                    <a:cubicBezTo>
                      <a:pt x="392" y="432"/>
                      <a:pt x="416" y="192"/>
                      <a:pt x="424" y="200"/>
                    </a:cubicBezTo>
                    <a:cubicBezTo>
                      <a:pt x="432" y="208"/>
                      <a:pt x="408" y="456"/>
                      <a:pt x="424" y="488"/>
                    </a:cubicBezTo>
                    <a:cubicBezTo>
                      <a:pt x="440" y="520"/>
                      <a:pt x="496" y="400"/>
                      <a:pt x="520" y="392"/>
                    </a:cubicBezTo>
                    <a:cubicBezTo>
                      <a:pt x="544" y="384"/>
                      <a:pt x="552" y="472"/>
                      <a:pt x="568" y="440"/>
                    </a:cubicBezTo>
                    <a:cubicBezTo>
                      <a:pt x="584" y="408"/>
                      <a:pt x="592" y="192"/>
                      <a:pt x="616" y="200"/>
                    </a:cubicBezTo>
                    <a:cubicBezTo>
                      <a:pt x="640" y="208"/>
                      <a:pt x="672" y="488"/>
                      <a:pt x="712" y="488"/>
                    </a:cubicBezTo>
                    <a:cubicBezTo>
                      <a:pt x="752" y="488"/>
                      <a:pt x="824" y="208"/>
                      <a:pt x="856" y="200"/>
                    </a:cubicBezTo>
                    <a:cubicBezTo>
                      <a:pt x="888" y="192"/>
                      <a:pt x="888" y="432"/>
                      <a:pt x="904" y="440"/>
                    </a:cubicBezTo>
                    <a:cubicBezTo>
                      <a:pt x="920" y="448"/>
                      <a:pt x="944" y="256"/>
                      <a:pt x="952" y="248"/>
                    </a:cubicBezTo>
                    <a:cubicBezTo>
                      <a:pt x="960" y="240"/>
                      <a:pt x="936" y="432"/>
                      <a:pt x="952" y="392"/>
                    </a:cubicBezTo>
                    <a:cubicBezTo>
                      <a:pt x="968" y="352"/>
                      <a:pt x="1032" y="0"/>
                      <a:pt x="1048" y="8"/>
                    </a:cubicBezTo>
                    <a:cubicBezTo>
                      <a:pt x="1064" y="16"/>
                      <a:pt x="1032" y="392"/>
                      <a:pt x="1048" y="440"/>
                    </a:cubicBezTo>
                    <a:cubicBezTo>
                      <a:pt x="1064" y="488"/>
                      <a:pt x="1128" y="304"/>
                      <a:pt x="1144" y="296"/>
                    </a:cubicBezTo>
                    <a:cubicBezTo>
                      <a:pt x="1160" y="288"/>
                      <a:pt x="1136" y="392"/>
                      <a:pt x="1144" y="392"/>
                    </a:cubicBezTo>
                    <a:cubicBezTo>
                      <a:pt x="1152" y="392"/>
                      <a:pt x="1184" y="288"/>
                      <a:pt x="1192" y="296"/>
                    </a:cubicBezTo>
                    <a:cubicBezTo>
                      <a:pt x="1200" y="304"/>
                      <a:pt x="1168" y="464"/>
                      <a:pt x="1192" y="440"/>
                    </a:cubicBezTo>
                    <a:cubicBezTo>
                      <a:pt x="1216" y="416"/>
                      <a:pt x="1312" y="152"/>
                      <a:pt x="1336" y="152"/>
                    </a:cubicBezTo>
                    <a:cubicBezTo>
                      <a:pt x="1360" y="152"/>
                      <a:pt x="1328" y="464"/>
                      <a:pt x="1336" y="440"/>
                    </a:cubicBezTo>
                    <a:cubicBezTo>
                      <a:pt x="1344" y="416"/>
                      <a:pt x="1376" y="16"/>
                      <a:pt x="1384" y="8"/>
                    </a:cubicBezTo>
                    <a:cubicBezTo>
                      <a:pt x="1392" y="0"/>
                      <a:pt x="1360" y="392"/>
                      <a:pt x="1384" y="392"/>
                    </a:cubicBezTo>
                    <a:cubicBezTo>
                      <a:pt x="1408" y="392"/>
                      <a:pt x="1504" y="8"/>
                      <a:pt x="1528" y="8"/>
                    </a:cubicBezTo>
                    <a:cubicBezTo>
                      <a:pt x="1552" y="8"/>
                      <a:pt x="1512" y="352"/>
                      <a:pt x="1528" y="392"/>
                    </a:cubicBezTo>
                    <a:cubicBezTo>
                      <a:pt x="1544" y="432"/>
                      <a:pt x="1600" y="288"/>
                      <a:pt x="1624" y="248"/>
                    </a:cubicBezTo>
                    <a:cubicBezTo>
                      <a:pt x="1648" y="208"/>
                      <a:pt x="1656" y="128"/>
                      <a:pt x="1672" y="152"/>
                    </a:cubicBezTo>
                    <a:cubicBezTo>
                      <a:pt x="1688" y="176"/>
                      <a:pt x="1696" y="400"/>
                      <a:pt x="1720" y="392"/>
                    </a:cubicBezTo>
                    <a:cubicBezTo>
                      <a:pt x="1744" y="384"/>
                      <a:pt x="1800" y="104"/>
                      <a:pt x="1816" y="104"/>
                    </a:cubicBezTo>
                    <a:cubicBezTo>
                      <a:pt x="1832" y="104"/>
                      <a:pt x="1792" y="384"/>
                      <a:pt x="1816" y="392"/>
                    </a:cubicBezTo>
                    <a:cubicBezTo>
                      <a:pt x="1840" y="400"/>
                      <a:pt x="1936" y="152"/>
                      <a:pt x="1960" y="152"/>
                    </a:cubicBezTo>
                    <a:cubicBezTo>
                      <a:pt x="1984" y="152"/>
                      <a:pt x="1928" y="400"/>
                      <a:pt x="1960" y="392"/>
                    </a:cubicBezTo>
                    <a:cubicBezTo>
                      <a:pt x="1992" y="384"/>
                      <a:pt x="2120" y="96"/>
                      <a:pt x="2152" y="104"/>
                    </a:cubicBezTo>
                    <a:cubicBezTo>
                      <a:pt x="2184" y="112"/>
                      <a:pt x="2128" y="448"/>
                      <a:pt x="2152" y="440"/>
                    </a:cubicBezTo>
                    <a:cubicBezTo>
                      <a:pt x="2176" y="432"/>
                      <a:pt x="2256" y="48"/>
                      <a:pt x="2296" y="56"/>
                    </a:cubicBezTo>
                    <a:cubicBezTo>
                      <a:pt x="2336" y="64"/>
                      <a:pt x="2720" y="392"/>
                      <a:pt x="2392" y="488"/>
                    </a:cubicBezTo>
                    <a:cubicBezTo>
                      <a:pt x="2064" y="584"/>
                      <a:pt x="656" y="656"/>
                      <a:pt x="328" y="632"/>
                    </a:cubicBezTo>
                    <a:cubicBezTo>
                      <a:pt x="0" y="608"/>
                      <a:pt x="352" y="416"/>
                      <a:pt x="424" y="344"/>
                    </a:cubicBezTo>
                  </a:path>
                </a:pathLst>
              </a:custGeom>
              <a:solidFill>
                <a:srgbClr val="8ec000"/>
              </a:solidFill>
              <a:ln w="9360">
                <a:solidFill>
                  <a:srgbClr val="85b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8800">
                <a:off x="5105520" y="5105520"/>
                <a:ext cx="4317840" cy="1904400"/>
              </a:xfrm>
              <a:custGeom>
                <a:avLst/>
                <a:gdLst/>
                <a:ahLst/>
                <a:rect l="l" t="t" r="r" b="b"/>
                <a:pathLst>
                  <a:path w="2720" h="656">
                    <a:moveTo>
                      <a:pt x="328" y="488"/>
                    </a:moveTo>
                    <a:cubicBezTo>
                      <a:pt x="324" y="372"/>
                      <a:pt x="320" y="256"/>
                      <a:pt x="328" y="248"/>
                    </a:cubicBezTo>
                    <a:cubicBezTo>
                      <a:pt x="336" y="240"/>
                      <a:pt x="360" y="448"/>
                      <a:pt x="376" y="440"/>
                    </a:cubicBezTo>
                    <a:cubicBezTo>
                      <a:pt x="392" y="432"/>
                      <a:pt x="416" y="192"/>
                      <a:pt x="424" y="200"/>
                    </a:cubicBezTo>
                    <a:cubicBezTo>
                      <a:pt x="432" y="208"/>
                      <a:pt x="408" y="456"/>
                      <a:pt x="424" y="488"/>
                    </a:cubicBezTo>
                    <a:cubicBezTo>
                      <a:pt x="440" y="520"/>
                      <a:pt x="496" y="400"/>
                      <a:pt x="520" y="392"/>
                    </a:cubicBezTo>
                    <a:cubicBezTo>
                      <a:pt x="544" y="384"/>
                      <a:pt x="552" y="472"/>
                      <a:pt x="568" y="440"/>
                    </a:cubicBezTo>
                    <a:cubicBezTo>
                      <a:pt x="584" y="408"/>
                      <a:pt x="592" y="192"/>
                      <a:pt x="616" y="200"/>
                    </a:cubicBezTo>
                    <a:cubicBezTo>
                      <a:pt x="640" y="208"/>
                      <a:pt x="672" y="488"/>
                      <a:pt x="712" y="488"/>
                    </a:cubicBezTo>
                    <a:cubicBezTo>
                      <a:pt x="752" y="488"/>
                      <a:pt x="824" y="208"/>
                      <a:pt x="856" y="200"/>
                    </a:cubicBezTo>
                    <a:cubicBezTo>
                      <a:pt x="888" y="192"/>
                      <a:pt x="888" y="432"/>
                      <a:pt x="904" y="440"/>
                    </a:cubicBezTo>
                    <a:cubicBezTo>
                      <a:pt x="920" y="448"/>
                      <a:pt x="944" y="256"/>
                      <a:pt x="952" y="248"/>
                    </a:cubicBezTo>
                    <a:cubicBezTo>
                      <a:pt x="960" y="240"/>
                      <a:pt x="936" y="432"/>
                      <a:pt x="952" y="392"/>
                    </a:cubicBezTo>
                    <a:cubicBezTo>
                      <a:pt x="968" y="352"/>
                      <a:pt x="1032" y="0"/>
                      <a:pt x="1048" y="8"/>
                    </a:cubicBezTo>
                    <a:cubicBezTo>
                      <a:pt x="1064" y="16"/>
                      <a:pt x="1032" y="392"/>
                      <a:pt x="1048" y="440"/>
                    </a:cubicBezTo>
                    <a:cubicBezTo>
                      <a:pt x="1064" y="488"/>
                      <a:pt x="1128" y="304"/>
                      <a:pt x="1144" y="296"/>
                    </a:cubicBezTo>
                    <a:cubicBezTo>
                      <a:pt x="1160" y="288"/>
                      <a:pt x="1136" y="392"/>
                      <a:pt x="1144" y="392"/>
                    </a:cubicBezTo>
                    <a:cubicBezTo>
                      <a:pt x="1152" y="392"/>
                      <a:pt x="1184" y="288"/>
                      <a:pt x="1192" y="296"/>
                    </a:cubicBezTo>
                    <a:cubicBezTo>
                      <a:pt x="1200" y="304"/>
                      <a:pt x="1168" y="464"/>
                      <a:pt x="1192" y="440"/>
                    </a:cubicBezTo>
                    <a:cubicBezTo>
                      <a:pt x="1216" y="416"/>
                      <a:pt x="1312" y="152"/>
                      <a:pt x="1336" y="152"/>
                    </a:cubicBezTo>
                    <a:cubicBezTo>
                      <a:pt x="1360" y="152"/>
                      <a:pt x="1328" y="464"/>
                      <a:pt x="1336" y="440"/>
                    </a:cubicBezTo>
                    <a:cubicBezTo>
                      <a:pt x="1344" y="416"/>
                      <a:pt x="1376" y="16"/>
                      <a:pt x="1384" y="8"/>
                    </a:cubicBezTo>
                    <a:cubicBezTo>
                      <a:pt x="1392" y="0"/>
                      <a:pt x="1360" y="392"/>
                      <a:pt x="1384" y="392"/>
                    </a:cubicBezTo>
                    <a:cubicBezTo>
                      <a:pt x="1408" y="392"/>
                      <a:pt x="1504" y="8"/>
                      <a:pt x="1528" y="8"/>
                    </a:cubicBezTo>
                    <a:cubicBezTo>
                      <a:pt x="1552" y="8"/>
                      <a:pt x="1512" y="352"/>
                      <a:pt x="1528" y="392"/>
                    </a:cubicBezTo>
                    <a:cubicBezTo>
                      <a:pt x="1544" y="432"/>
                      <a:pt x="1600" y="288"/>
                      <a:pt x="1624" y="248"/>
                    </a:cubicBezTo>
                    <a:cubicBezTo>
                      <a:pt x="1648" y="208"/>
                      <a:pt x="1656" y="128"/>
                      <a:pt x="1672" y="152"/>
                    </a:cubicBezTo>
                    <a:cubicBezTo>
                      <a:pt x="1688" y="176"/>
                      <a:pt x="1696" y="400"/>
                      <a:pt x="1720" y="392"/>
                    </a:cubicBezTo>
                    <a:cubicBezTo>
                      <a:pt x="1744" y="384"/>
                      <a:pt x="1800" y="104"/>
                      <a:pt x="1816" y="104"/>
                    </a:cubicBezTo>
                    <a:cubicBezTo>
                      <a:pt x="1832" y="104"/>
                      <a:pt x="1792" y="384"/>
                      <a:pt x="1816" y="392"/>
                    </a:cubicBezTo>
                    <a:cubicBezTo>
                      <a:pt x="1840" y="400"/>
                      <a:pt x="1936" y="152"/>
                      <a:pt x="1960" y="152"/>
                    </a:cubicBezTo>
                    <a:cubicBezTo>
                      <a:pt x="1984" y="152"/>
                      <a:pt x="1928" y="400"/>
                      <a:pt x="1960" y="392"/>
                    </a:cubicBezTo>
                    <a:cubicBezTo>
                      <a:pt x="1992" y="384"/>
                      <a:pt x="2120" y="96"/>
                      <a:pt x="2152" y="104"/>
                    </a:cubicBezTo>
                    <a:cubicBezTo>
                      <a:pt x="2184" y="112"/>
                      <a:pt x="2128" y="448"/>
                      <a:pt x="2152" y="440"/>
                    </a:cubicBezTo>
                    <a:cubicBezTo>
                      <a:pt x="2176" y="432"/>
                      <a:pt x="2256" y="48"/>
                      <a:pt x="2296" y="56"/>
                    </a:cubicBezTo>
                    <a:cubicBezTo>
                      <a:pt x="2336" y="64"/>
                      <a:pt x="2720" y="392"/>
                      <a:pt x="2392" y="488"/>
                    </a:cubicBezTo>
                    <a:cubicBezTo>
                      <a:pt x="2064" y="584"/>
                      <a:pt x="656" y="656"/>
                      <a:pt x="328" y="632"/>
                    </a:cubicBezTo>
                    <a:cubicBezTo>
                      <a:pt x="0" y="608"/>
                      <a:pt x="352" y="416"/>
                      <a:pt x="424" y="344"/>
                    </a:cubicBezTo>
                  </a:path>
                </a:pathLst>
              </a:custGeom>
              <a:solidFill>
                <a:srgbClr val="8ec000"/>
              </a:solidFill>
              <a:ln w="9360">
                <a:solidFill>
                  <a:srgbClr val="85b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8001000" y="3568320"/>
            <a:ext cx="3429000" cy="2832120"/>
            <a:chOff x="8001000" y="3568320"/>
            <a:chExt cx="3429000" cy="2832120"/>
          </a:xfrm>
        </p:grpSpPr>
        <p:sp>
          <p:nvSpPr>
            <p:cNvPr id="294" name=""/>
            <p:cNvSpPr/>
            <p:nvPr/>
          </p:nvSpPr>
          <p:spPr>
            <a:xfrm>
              <a:off x="8458200" y="5562360"/>
              <a:ext cx="393840" cy="609480"/>
            </a:xfrm>
            <a:custGeom>
              <a:avLst/>
              <a:gdLst/>
              <a:ahLst/>
              <a:rect l="l" t="t" r="r" b="b"/>
              <a:pathLst>
                <a:path w="248" h="384">
                  <a:moveTo>
                    <a:pt x="72" y="48"/>
                  </a:moveTo>
                  <a:cubicBezTo>
                    <a:pt x="40" y="96"/>
                    <a:pt x="0" y="288"/>
                    <a:pt x="24" y="336"/>
                  </a:cubicBezTo>
                  <a:cubicBezTo>
                    <a:pt x="48" y="384"/>
                    <a:pt x="184" y="384"/>
                    <a:pt x="216" y="336"/>
                  </a:cubicBezTo>
                  <a:cubicBezTo>
                    <a:pt x="248" y="288"/>
                    <a:pt x="240" y="96"/>
                    <a:pt x="216" y="48"/>
                  </a:cubicBezTo>
                  <a:cubicBezTo>
                    <a:pt x="192" y="0"/>
                    <a:pt x="104" y="0"/>
                    <a:pt x="72" y="48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906120" y="5562360"/>
              <a:ext cx="393480" cy="609480"/>
            </a:xfrm>
            <a:custGeom>
              <a:avLst/>
              <a:gdLst/>
              <a:ahLst/>
              <a:rect l="l" t="t" r="r" b="b"/>
              <a:pathLst>
                <a:path w="248" h="384">
                  <a:moveTo>
                    <a:pt x="72" y="48"/>
                  </a:moveTo>
                  <a:cubicBezTo>
                    <a:pt x="40" y="96"/>
                    <a:pt x="0" y="288"/>
                    <a:pt x="24" y="336"/>
                  </a:cubicBezTo>
                  <a:cubicBezTo>
                    <a:pt x="48" y="384"/>
                    <a:pt x="184" y="384"/>
                    <a:pt x="216" y="336"/>
                  </a:cubicBezTo>
                  <a:cubicBezTo>
                    <a:pt x="248" y="288"/>
                    <a:pt x="240" y="96"/>
                    <a:pt x="216" y="48"/>
                  </a:cubicBezTo>
                  <a:cubicBezTo>
                    <a:pt x="192" y="0"/>
                    <a:pt x="104" y="0"/>
                    <a:pt x="72" y="48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648640" y="5638680"/>
              <a:ext cx="393840" cy="609480"/>
            </a:xfrm>
            <a:custGeom>
              <a:avLst/>
              <a:gdLst/>
              <a:ahLst/>
              <a:rect l="l" t="t" r="r" b="b"/>
              <a:pathLst>
                <a:path w="248" h="384">
                  <a:moveTo>
                    <a:pt x="72" y="48"/>
                  </a:moveTo>
                  <a:cubicBezTo>
                    <a:pt x="40" y="96"/>
                    <a:pt x="0" y="288"/>
                    <a:pt x="24" y="336"/>
                  </a:cubicBezTo>
                  <a:cubicBezTo>
                    <a:pt x="48" y="384"/>
                    <a:pt x="184" y="384"/>
                    <a:pt x="216" y="336"/>
                  </a:cubicBezTo>
                  <a:cubicBezTo>
                    <a:pt x="248" y="288"/>
                    <a:pt x="240" y="96"/>
                    <a:pt x="216" y="48"/>
                  </a:cubicBezTo>
                  <a:cubicBezTo>
                    <a:pt x="192" y="0"/>
                    <a:pt x="104" y="0"/>
                    <a:pt x="72" y="48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01000" y="3885840"/>
              <a:ext cx="304920" cy="304920"/>
            </a:xfrm>
            <a:prstGeom prst="ellipse">
              <a:avLst/>
            </a:prstGeom>
            <a:solidFill>
              <a:srgbClr val="c5c5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86800" y="3885840"/>
              <a:ext cx="304920" cy="304920"/>
            </a:xfrm>
            <a:prstGeom prst="ellipse">
              <a:avLst/>
            </a:prstGeom>
            <a:solidFill>
              <a:srgbClr val="c5c5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29600" y="4495680"/>
              <a:ext cx="2514600" cy="1218960"/>
            </a:xfrm>
            <a:prstGeom prst="ellipse">
              <a:avLst/>
            </a:prstGeom>
            <a:solidFill>
              <a:srgbClr val="c5c5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8400">
              <a:off x="8610480" y="3580920"/>
              <a:ext cx="22860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300" y="1615"/>
                    <a:pt x="9000" y="5080"/>
                    <a:pt x="9000" y="10800"/>
                  </a:cubicBezTo>
                  <a:cubicBezTo>
                    <a:pt x="9000" y="16520"/>
                    <a:pt x="15300" y="1998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rot="21261600">
              <a:off x="8151840" y="3580920"/>
              <a:ext cx="22860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300" y="1615"/>
                    <a:pt x="9000" y="5080"/>
                    <a:pt x="9000" y="10800"/>
                  </a:cubicBezTo>
                  <a:cubicBezTo>
                    <a:pt x="9000" y="16520"/>
                    <a:pt x="15300" y="1998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77320" y="3962160"/>
              <a:ext cx="838080" cy="1066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05920" y="4267080"/>
              <a:ext cx="1522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8200" y="4267080"/>
              <a:ext cx="1522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05920" y="4343040"/>
              <a:ext cx="7596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58200" y="4343040"/>
              <a:ext cx="763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1000" y="4724280"/>
              <a:ext cx="838080" cy="380880"/>
            </a:xfrm>
            <a:prstGeom prst="ellipse">
              <a:avLst/>
            </a:prstGeom>
            <a:solidFill>
              <a:srgbClr val="fe75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8153280" y="4190760"/>
              <a:ext cx="228600" cy="165240"/>
              <a:chOff x="8153280" y="4190760"/>
              <a:chExt cx="228600" cy="165240"/>
            </a:xfrm>
          </p:grpSpPr>
          <p:sp>
            <p:nvSpPr>
              <p:cNvPr id="309" name=""/>
              <p:cNvSpPr/>
              <p:nvPr/>
            </p:nvSpPr>
            <p:spPr>
              <a:xfrm>
                <a:off x="8153280" y="4190760"/>
                <a:ext cx="228600" cy="1652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8" y="0"/>
                    </a:moveTo>
                    <a:cubicBezTo>
                      <a:pt x="4" y="20"/>
                      <a:pt x="0" y="40"/>
                      <a:pt x="8" y="48"/>
                    </a:cubicBezTo>
                    <a:cubicBezTo>
                      <a:pt x="16" y="56"/>
                      <a:pt x="48" y="48"/>
                      <a:pt x="56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229600" y="4190760"/>
                <a:ext cx="152280" cy="1652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8" y="0"/>
                    </a:moveTo>
                    <a:cubicBezTo>
                      <a:pt x="4" y="20"/>
                      <a:pt x="0" y="40"/>
                      <a:pt x="8" y="48"/>
                    </a:cubicBezTo>
                    <a:cubicBezTo>
                      <a:pt x="16" y="56"/>
                      <a:pt x="48" y="48"/>
                      <a:pt x="56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05560" y="4190760"/>
                <a:ext cx="76320" cy="1652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8" y="0"/>
                    </a:moveTo>
                    <a:cubicBezTo>
                      <a:pt x="4" y="20"/>
                      <a:pt x="0" y="40"/>
                      <a:pt x="8" y="48"/>
                    </a:cubicBezTo>
                    <a:cubicBezTo>
                      <a:pt x="16" y="56"/>
                      <a:pt x="48" y="48"/>
                      <a:pt x="56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8381880" y="4190760"/>
              <a:ext cx="228600" cy="165240"/>
              <a:chOff x="8381880" y="4190760"/>
              <a:chExt cx="228600" cy="165240"/>
            </a:xfrm>
          </p:grpSpPr>
          <p:sp>
            <p:nvSpPr>
              <p:cNvPr id="313" name=""/>
              <p:cNvSpPr/>
              <p:nvPr/>
            </p:nvSpPr>
            <p:spPr>
              <a:xfrm>
                <a:off x="8381880" y="4190760"/>
                <a:ext cx="228600" cy="1652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8" y="0"/>
                    </a:moveTo>
                    <a:cubicBezTo>
                      <a:pt x="4" y="20"/>
                      <a:pt x="0" y="40"/>
                      <a:pt x="8" y="48"/>
                    </a:cubicBezTo>
                    <a:cubicBezTo>
                      <a:pt x="16" y="56"/>
                      <a:pt x="48" y="48"/>
                      <a:pt x="56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58200" y="4190760"/>
                <a:ext cx="152280" cy="1652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8" y="0"/>
                    </a:moveTo>
                    <a:cubicBezTo>
                      <a:pt x="4" y="20"/>
                      <a:pt x="0" y="40"/>
                      <a:pt x="8" y="48"/>
                    </a:cubicBezTo>
                    <a:cubicBezTo>
                      <a:pt x="16" y="56"/>
                      <a:pt x="48" y="48"/>
                      <a:pt x="56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534160" y="4190760"/>
                <a:ext cx="76320" cy="1652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8" y="0"/>
                    </a:moveTo>
                    <a:cubicBezTo>
                      <a:pt x="4" y="20"/>
                      <a:pt x="0" y="40"/>
                      <a:pt x="8" y="48"/>
                    </a:cubicBezTo>
                    <a:cubicBezTo>
                      <a:pt x="16" y="56"/>
                      <a:pt x="48" y="48"/>
                      <a:pt x="56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8153280" y="4876560"/>
              <a:ext cx="1526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58200" y="4876560"/>
              <a:ext cx="15228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8153280" y="5181480"/>
              <a:ext cx="609840" cy="532800"/>
              <a:chOff x="8153280" y="5181480"/>
              <a:chExt cx="609840" cy="532800"/>
            </a:xfrm>
          </p:grpSpPr>
          <p:sp>
            <p:nvSpPr>
              <p:cNvPr id="319" name=""/>
              <p:cNvSpPr/>
              <p:nvPr/>
            </p:nvSpPr>
            <p:spPr>
              <a:xfrm>
                <a:off x="8305920" y="5409720"/>
                <a:ext cx="304560" cy="304560"/>
              </a:xfrm>
              <a:prstGeom prst="sun">
                <a:avLst>
                  <a:gd name="adj" fmla="val 17189"/>
                </a:avLst>
              </a:prstGeom>
              <a:solidFill>
                <a:srgbClr val="edc32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0800000">
                <a:off x="8153280" y="5181480"/>
                <a:ext cx="609840" cy="380880"/>
              </a:xfrm>
              <a:custGeom>
                <a:avLst/>
                <a:gdLst>
                  <a:gd name="textAreaLeft" fmla="*/ 147960 w 609840"/>
                  <a:gd name="textAreaRight" fmla="*/ 461880 w 609840"/>
                  <a:gd name="textAreaTop" fmla="*/ 92520 h 380880"/>
                  <a:gd name="textAreaBottom" fmla="*/ 28836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00" y="21600"/>
                    </a:lnTo>
                    <a:lnTo>
                      <a:pt x="6300" y="21600"/>
                    </a:lnTo>
                    <a:close/>
                  </a:path>
                </a:pathLst>
              </a:custGeom>
              <a:solidFill>
                <a:srgbClr val="edc32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8915400" y="4495680"/>
              <a:ext cx="685800" cy="3808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829800" y="5028840"/>
              <a:ext cx="685800" cy="3049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67680" y="5333760"/>
              <a:ext cx="762120" cy="3808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617120" y="4038480"/>
              <a:ext cx="571680" cy="838080"/>
            </a:xfrm>
            <a:custGeom>
              <a:avLst/>
              <a:gdLst/>
              <a:ahLst/>
              <a:rect l="l" t="t" r="r" b="b"/>
              <a:pathLst>
                <a:path w="360" h="528">
                  <a:moveTo>
                    <a:pt x="32" y="528"/>
                  </a:moveTo>
                  <a:cubicBezTo>
                    <a:pt x="16" y="416"/>
                    <a:pt x="0" y="304"/>
                    <a:pt x="32" y="240"/>
                  </a:cubicBezTo>
                  <a:cubicBezTo>
                    <a:pt x="64" y="176"/>
                    <a:pt x="184" y="184"/>
                    <a:pt x="224" y="144"/>
                  </a:cubicBezTo>
                  <a:cubicBezTo>
                    <a:pt x="264" y="104"/>
                    <a:pt x="360" y="128"/>
                    <a:pt x="272" y="0"/>
                  </a:cubicBezTo>
                </a:path>
              </a:pathLst>
            </a:custGeom>
            <a:noFill/>
            <a:ln w="38160">
              <a:solidFill>
                <a:srgbClr val="c5c5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667880" y="3809880"/>
              <a:ext cx="762120" cy="685800"/>
            </a:xfrm>
            <a:prstGeom prst="sun">
              <a:avLst>
                <a:gd name="adj" fmla="val 38333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829800" y="6095880"/>
              <a:ext cx="457200" cy="304560"/>
            </a:xfrm>
            <a:prstGeom prst="roundRect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05920" y="6095880"/>
              <a:ext cx="457200" cy="304560"/>
            </a:xfrm>
            <a:prstGeom prst="roundRect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610480" y="6095880"/>
              <a:ext cx="457200" cy="304560"/>
            </a:xfrm>
            <a:prstGeom prst="roundRect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134720" y="5562360"/>
              <a:ext cx="393480" cy="609480"/>
            </a:xfrm>
            <a:custGeom>
              <a:avLst/>
              <a:gdLst/>
              <a:ahLst/>
              <a:rect l="l" t="t" r="r" b="b"/>
              <a:pathLst>
                <a:path w="248" h="384">
                  <a:moveTo>
                    <a:pt x="72" y="48"/>
                  </a:moveTo>
                  <a:cubicBezTo>
                    <a:pt x="40" y="96"/>
                    <a:pt x="0" y="288"/>
                    <a:pt x="24" y="336"/>
                  </a:cubicBezTo>
                  <a:cubicBezTo>
                    <a:pt x="48" y="384"/>
                    <a:pt x="184" y="384"/>
                    <a:pt x="216" y="336"/>
                  </a:cubicBezTo>
                  <a:cubicBezTo>
                    <a:pt x="248" y="288"/>
                    <a:pt x="240" y="96"/>
                    <a:pt x="216" y="48"/>
                  </a:cubicBezTo>
                  <a:cubicBezTo>
                    <a:pt x="192" y="0"/>
                    <a:pt x="104" y="0"/>
                    <a:pt x="72" y="48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058400" y="6095880"/>
              <a:ext cx="457200" cy="304560"/>
            </a:xfrm>
            <a:prstGeom prst="roundRect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92960" y="3973320"/>
              <a:ext cx="141480" cy="179280"/>
            </a:xfrm>
            <a:custGeom>
              <a:avLst/>
              <a:gdLst/>
              <a:ahLst/>
              <a:rect l="l" t="t" r="r" b="b"/>
              <a:pathLst>
                <a:path w="89" h="113">
                  <a:moveTo>
                    <a:pt x="8" y="113"/>
                  </a:moveTo>
                  <a:cubicBezTo>
                    <a:pt x="10" y="90"/>
                    <a:pt x="0" y="61"/>
                    <a:pt x="16" y="45"/>
                  </a:cubicBezTo>
                  <a:cubicBezTo>
                    <a:pt x="30" y="31"/>
                    <a:pt x="60" y="20"/>
                    <a:pt x="76" y="9"/>
                  </a:cubicBezTo>
                  <a:cubicBezTo>
                    <a:pt x="89" y="0"/>
                    <a:pt x="88" y="11"/>
                    <a:pt x="88" y="1"/>
                  </a:cubicBezTo>
                </a:path>
              </a:pathLst>
            </a:custGeom>
            <a:noFill/>
            <a:ln w="190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423280" y="3949560"/>
              <a:ext cx="79200" cy="203040"/>
            </a:xfrm>
            <a:custGeom>
              <a:avLst/>
              <a:gdLst/>
              <a:ahLst/>
              <a:rect l="l" t="t" r="r" b="b"/>
              <a:pathLst>
                <a:path w="50" h="128">
                  <a:moveTo>
                    <a:pt x="6" y="128"/>
                  </a:moveTo>
                  <a:cubicBezTo>
                    <a:pt x="8" y="93"/>
                    <a:pt x="0" y="56"/>
                    <a:pt x="14" y="24"/>
                  </a:cubicBezTo>
                  <a:cubicBezTo>
                    <a:pt x="23" y="3"/>
                    <a:pt x="50" y="28"/>
                    <a:pt x="50" y="0"/>
                  </a:cubicBezTo>
                </a:path>
              </a:pathLst>
            </a:custGeom>
            <a:noFill/>
            <a:ln w="190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97800" y="3962160"/>
              <a:ext cx="93600" cy="17136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59" y="108"/>
                  </a:moveTo>
                  <a:cubicBezTo>
                    <a:pt x="50" y="82"/>
                    <a:pt x="27" y="61"/>
                    <a:pt x="19" y="36"/>
                  </a:cubicBezTo>
                  <a:cubicBezTo>
                    <a:pt x="19" y="35"/>
                    <a:pt x="0" y="0"/>
                    <a:pt x="11" y="0"/>
                  </a:cubicBezTo>
                </a:path>
              </a:pathLst>
            </a:custGeom>
            <a:noFill/>
            <a:ln w="190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-2286000" y="3704760"/>
            <a:ext cx="3504240" cy="2924640"/>
            <a:chOff x="-2286000" y="3704760"/>
            <a:chExt cx="3504240" cy="2924640"/>
          </a:xfrm>
        </p:grpSpPr>
        <p:sp>
          <p:nvSpPr>
            <p:cNvPr id="335" name=""/>
            <p:cNvSpPr/>
            <p:nvPr/>
          </p:nvSpPr>
          <p:spPr>
            <a:xfrm flipH="1">
              <a:off x="291960" y="5791320"/>
              <a:ext cx="393840" cy="609480"/>
            </a:xfrm>
            <a:custGeom>
              <a:avLst/>
              <a:gdLst/>
              <a:ahLst/>
              <a:rect l="l" t="t" r="r" b="b"/>
              <a:pathLst>
                <a:path w="248" h="384">
                  <a:moveTo>
                    <a:pt x="72" y="48"/>
                  </a:moveTo>
                  <a:cubicBezTo>
                    <a:pt x="40" y="96"/>
                    <a:pt x="0" y="288"/>
                    <a:pt x="24" y="336"/>
                  </a:cubicBezTo>
                  <a:cubicBezTo>
                    <a:pt x="48" y="384"/>
                    <a:pt x="184" y="384"/>
                    <a:pt x="216" y="336"/>
                  </a:cubicBezTo>
                  <a:cubicBezTo>
                    <a:pt x="248" y="288"/>
                    <a:pt x="240" y="96"/>
                    <a:pt x="216" y="48"/>
                  </a:cubicBezTo>
                  <a:cubicBezTo>
                    <a:pt x="192" y="0"/>
                    <a:pt x="104" y="0"/>
                    <a:pt x="72" y="48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-1156320" y="5791320"/>
              <a:ext cx="393480" cy="609480"/>
            </a:xfrm>
            <a:custGeom>
              <a:avLst/>
              <a:gdLst/>
              <a:ahLst/>
              <a:rect l="l" t="t" r="r" b="b"/>
              <a:pathLst>
                <a:path w="248" h="384">
                  <a:moveTo>
                    <a:pt x="72" y="48"/>
                  </a:moveTo>
                  <a:cubicBezTo>
                    <a:pt x="40" y="96"/>
                    <a:pt x="0" y="288"/>
                    <a:pt x="24" y="336"/>
                  </a:cubicBezTo>
                  <a:cubicBezTo>
                    <a:pt x="48" y="384"/>
                    <a:pt x="184" y="384"/>
                    <a:pt x="216" y="336"/>
                  </a:cubicBezTo>
                  <a:cubicBezTo>
                    <a:pt x="248" y="288"/>
                    <a:pt x="240" y="96"/>
                    <a:pt x="216" y="48"/>
                  </a:cubicBezTo>
                  <a:cubicBezTo>
                    <a:pt x="192" y="0"/>
                    <a:pt x="104" y="0"/>
                    <a:pt x="72" y="48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01520" y="5867640"/>
              <a:ext cx="393840" cy="609480"/>
            </a:xfrm>
            <a:custGeom>
              <a:avLst/>
              <a:gdLst/>
              <a:ahLst/>
              <a:rect l="l" t="t" r="r" b="b"/>
              <a:pathLst>
                <a:path w="248" h="384">
                  <a:moveTo>
                    <a:pt x="72" y="48"/>
                  </a:moveTo>
                  <a:cubicBezTo>
                    <a:pt x="40" y="96"/>
                    <a:pt x="0" y="288"/>
                    <a:pt x="24" y="336"/>
                  </a:cubicBezTo>
                  <a:cubicBezTo>
                    <a:pt x="48" y="384"/>
                    <a:pt x="184" y="384"/>
                    <a:pt x="216" y="336"/>
                  </a:cubicBezTo>
                  <a:cubicBezTo>
                    <a:pt x="248" y="288"/>
                    <a:pt x="240" y="96"/>
                    <a:pt x="216" y="48"/>
                  </a:cubicBezTo>
                  <a:cubicBezTo>
                    <a:pt x="192" y="0"/>
                    <a:pt x="104" y="0"/>
                    <a:pt x="72" y="48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37360" y="4114800"/>
              <a:ext cx="304920" cy="30492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151560" y="4114800"/>
              <a:ext cx="304920" cy="30492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-1600920" y="4724640"/>
              <a:ext cx="2514600" cy="121896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21051600">
              <a:off x="303840" y="3809880"/>
              <a:ext cx="22860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300" y="1615"/>
                    <a:pt x="9000" y="5080"/>
                    <a:pt x="9000" y="10800"/>
                  </a:cubicBezTo>
                  <a:cubicBezTo>
                    <a:pt x="9000" y="16520"/>
                    <a:pt x="15300" y="1998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338400">
              <a:off x="762120" y="3809880"/>
              <a:ext cx="22860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300" y="1615"/>
                    <a:pt x="9000" y="5080"/>
                    <a:pt x="9000" y="10800"/>
                  </a:cubicBezTo>
                  <a:cubicBezTo>
                    <a:pt x="9000" y="16520"/>
                    <a:pt x="15300" y="1998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28600" y="4191120"/>
              <a:ext cx="838080" cy="1066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85080" y="4496040"/>
              <a:ext cx="1522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32800" y="4496040"/>
              <a:ext cx="1522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61400" y="4572000"/>
              <a:ext cx="7596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09480" y="4572000"/>
              <a:ext cx="763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761760" y="4419720"/>
              <a:ext cx="228600" cy="165240"/>
              <a:chOff x="761760" y="4419720"/>
              <a:chExt cx="228600" cy="16524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761400" y="4419720"/>
                <a:ext cx="228600" cy="1652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8" y="0"/>
                    </a:moveTo>
                    <a:cubicBezTo>
                      <a:pt x="4" y="20"/>
                      <a:pt x="0" y="40"/>
                      <a:pt x="8" y="48"/>
                    </a:cubicBezTo>
                    <a:cubicBezTo>
                      <a:pt x="16" y="56"/>
                      <a:pt x="48" y="48"/>
                      <a:pt x="56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761400" y="4419720"/>
                <a:ext cx="152280" cy="1652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8" y="0"/>
                    </a:moveTo>
                    <a:cubicBezTo>
                      <a:pt x="4" y="20"/>
                      <a:pt x="0" y="40"/>
                      <a:pt x="8" y="48"/>
                    </a:cubicBezTo>
                    <a:cubicBezTo>
                      <a:pt x="16" y="56"/>
                      <a:pt x="48" y="48"/>
                      <a:pt x="56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761760" y="4419720"/>
                <a:ext cx="76320" cy="1652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8" y="0"/>
                    </a:moveTo>
                    <a:cubicBezTo>
                      <a:pt x="4" y="20"/>
                      <a:pt x="0" y="40"/>
                      <a:pt x="8" y="48"/>
                    </a:cubicBezTo>
                    <a:cubicBezTo>
                      <a:pt x="16" y="56"/>
                      <a:pt x="48" y="48"/>
                      <a:pt x="56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33160" y="4419720"/>
              <a:ext cx="228600" cy="165240"/>
              <a:chOff x="533160" y="4419720"/>
              <a:chExt cx="228600" cy="16524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532800" y="4419720"/>
                <a:ext cx="228600" cy="1652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8" y="0"/>
                    </a:moveTo>
                    <a:cubicBezTo>
                      <a:pt x="4" y="20"/>
                      <a:pt x="0" y="40"/>
                      <a:pt x="8" y="48"/>
                    </a:cubicBezTo>
                    <a:cubicBezTo>
                      <a:pt x="16" y="56"/>
                      <a:pt x="48" y="48"/>
                      <a:pt x="56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32800" y="4419720"/>
                <a:ext cx="152280" cy="1652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8" y="0"/>
                    </a:moveTo>
                    <a:cubicBezTo>
                      <a:pt x="4" y="20"/>
                      <a:pt x="0" y="40"/>
                      <a:pt x="8" y="48"/>
                    </a:cubicBezTo>
                    <a:cubicBezTo>
                      <a:pt x="16" y="56"/>
                      <a:pt x="48" y="48"/>
                      <a:pt x="56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33160" y="4419720"/>
                <a:ext cx="76320" cy="1652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8" y="0"/>
                    </a:moveTo>
                    <a:cubicBezTo>
                      <a:pt x="4" y="20"/>
                      <a:pt x="0" y="40"/>
                      <a:pt x="8" y="48"/>
                    </a:cubicBezTo>
                    <a:cubicBezTo>
                      <a:pt x="16" y="56"/>
                      <a:pt x="48" y="48"/>
                      <a:pt x="56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flipH="1">
              <a:off x="-457920" y="4724640"/>
              <a:ext cx="685800" cy="3808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-1372320" y="5257800"/>
              <a:ext cx="685800" cy="3049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-686520" y="5562720"/>
              <a:ext cx="762120" cy="3808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-2133720" y="5257080"/>
              <a:ext cx="571680" cy="838440"/>
            </a:xfrm>
            <a:custGeom>
              <a:avLst/>
              <a:gdLst/>
              <a:ahLst/>
              <a:rect l="l" t="t" r="r" b="b"/>
              <a:pathLst>
                <a:path w="360" h="528">
                  <a:moveTo>
                    <a:pt x="32" y="528"/>
                  </a:moveTo>
                  <a:cubicBezTo>
                    <a:pt x="16" y="416"/>
                    <a:pt x="0" y="304"/>
                    <a:pt x="32" y="240"/>
                  </a:cubicBezTo>
                  <a:cubicBezTo>
                    <a:pt x="64" y="176"/>
                    <a:pt x="184" y="184"/>
                    <a:pt x="224" y="144"/>
                  </a:cubicBezTo>
                  <a:cubicBezTo>
                    <a:pt x="264" y="104"/>
                    <a:pt x="360" y="128"/>
                    <a:pt x="272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-1143000" y="6324840"/>
              <a:ext cx="457200" cy="304560"/>
            </a:xfrm>
            <a:prstGeom prst="roundRect">
              <a:avLst>
                <a:gd name="adj" fmla="val 50000"/>
              </a:avLst>
            </a:prstGeom>
            <a:solidFill>
              <a:srgbClr val="c5c5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80880" y="6324840"/>
              <a:ext cx="457200" cy="304560"/>
            </a:xfrm>
            <a:prstGeom prst="roundRect">
              <a:avLst>
                <a:gd name="adj" fmla="val 50000"/>
              </a:avLst>
            </a:prstGeom>
            <a:solidFill>
              <a:srgbClr val="c5c5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320" y="6324840"/>
              <a:ext cx="457200" cy="304560"/>
            </a:xfrm>
            <a:prstGeom prst="roundRect">
              <a:avLst>
                <a:gd name="adj" fmla="val 50000"/>
              </a:avLst>
            </a:prstGeom>
            <a:solidFill>
              <a:srgbClr val="c5c5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-1384920" y="5791320"/>
              <a:ext cx="393480" cy="609480"/>
            </a:xfrm>
            <a:custGeom>
              <a:avLst/>
              <a:gdLst/>
              <a:ahLst/>
              <a:rect l="l" t="t" r="r" b="b"/>
              <a:pathLst>
                <a:path w="248" h="384">
                  <a:moveTo>
                    <a:pt x="72" y="48"/>
                  </a:moveTo>
                  <a:cubicBezTo>
                    <a:pt x="40" y="96"/>
                    <a:pt x="0" y="288"/>
                    <a:pt x="24" y="336"/>
                  </a:cubicBezTo>
                  <a:cubicBezTo>
                    <a:pt x="48" y="384"/>
                    <a:pt x="184" y="384"/>
                    <a:pt x="216" y="336"/>
                  </a:cubicBezTo>
                  <a:cubicBezTo>
                    <a:pt x="248" y="288"/>
                    <a:pt x="240" y="96"/>
                    <a:pt x="216" y="48"/>
                  </a:cubicBezTo>
                  <a:cubicBezTo>
                    <a:pt x="192" y="0"/>
                    <a:pt x="104" y="0"/>
                    <a:pt x="72" y="48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-1371600" y="6324840"/>
              <a:ext cx="457200" cy="304560"/>
            </a:xfrm>
            <a:prstGeom prst="roundRect">
              <a:avLst>
                <a:gd name="adj" fmla="val 50000"/>
              </a:avLst>
            </a:prstGeom>
            <a:solidFill>
              <a:srgbClr val="c5c5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-2286000" y="5867640"/>
              <a:ext cx="685800" cy="533160"/>
            </a:xfrm>
            <a:custGeom>
              <a:avLst/>
              <a:gdLst>
                <a:gd name="textAreaLeft" fmla="*/ 268920 w 685800"/>
                <a:gd name="textAreaRight" fmla="*/ 416880 w 685800"/>
                <a:gd name="textAreaTop" fmla="*/ 208800 h 533160"/>
                <a:gd name="textAreaBottom" fmla="*/ 3243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561" y="11430"/>
                  </a:lnTo>
                  <a:lnTo>
                    <a:pt x="786" y="14846"/>
                  </a:lnTo>
                  <a:lnTo>
                    <a:pt x="8032" y="12597"/>
                  </a:lnTo>
                  <a:lnTo>
                    <a:pt x="3163" y="18437"/>
                  </a:lnTo>
                  <a:lnTo>
                    <a:pt x="8955" y="13536"/>
                  </a:lnTo>
                  <a:lnTo>
                    <a:pt x="6580" y="20741"/>
                  </a:lnTo>
                  <a:lnTo>
                    <a:pt x="10114" y="14028"/>
                  </a:lnTo>
                  <a:lnTo>
                    <a:pt x="10800" y="21600"/>
                  </a:lnTo>
                  <a:lnTo>
                    <a:pt x="11430" y="14039"/>
                  </a:lnTo>
                  <a:lnTo>
                    <a:pt x="14846" y="20814"/>
                  </a:lnTo>
                  <a:lnTo>
                    <a:pt x="12597" y="13568"/>
                  </a:lnTo>
                  <a:lnTo>
                    <a:pt x="18437" y="18437"/>
                  </a:lnTo>
                  <a:lnTo>
                    <a:pt x="13536" y="12645"/>
                  </a:lnTo>
                  <a:lnTo>
                    <a:pt x="20741" y="15020"/>
                  </a:lnTo>
                  <a:lnTo>
                    <a:pt x="14028" y="11486"/>
                  </a:lnTo>
                  <a:lnTo>
                    <a:pt x="21600" y="10800"/>
                  </a:lnTo>
                  <a:lnTo>
                    <a:pt x="14039" y="10170"/>
                  </a:lnTo>
                  <a:lnTo>
                    <a:pt x="20814" y="6754"/>
                  </a:lnTo>
                  <a:lnTo>
                    <a:pt x="13568" y="9003"/>
                  </a:lnTo>
                  <a:lnTo>
                    <a:pt x="18437" y="3163"/>
                  </a:lnTo>
                  <a:lnTo>
                    <a:pt x="12645" y="8064"/>
                  </a:lnTo>
                  <a:lnTo>
                    <a:pt x="15020" y="859"/>
                  </a:lnTo>
                  <a:lnTo>
                    <a:pt x="11486" y="7572"/>
                  </a:lnTo>
                  <a:lnTo>
                    <a:pt x="10800" y="0"/>
                  </a:lnTo>
                  <a:lnTo>
                    <a:pt x="10170" y="7561"/>
                  </a:lnTo>
                  <a:lnTo>
                    <a:pt x="6754" y="786"/>
                  </a:lnTo>
                  <a:lnTo>
                    <a:pt x="9003" y="8032"/>
                  </a:lnTo>
                  <a:lnTo>
                    <a:pt x="3163" y="3163"/>
                  </a:lnTo>
                  <a:lnTo>
                    <a:pt x="8064" y="8955"/>
                  </a:lnTo>
                  <a:lnTo>
                    <a:pt x="859" y="6580"/>
                  </a:lnTo>
                  <a:lnTo>
                    <a:pt x="7572" y="1011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e75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3704400">
              <a:off x="212400" y="3901680"/>
              <a:ext cx="609480" cy="273240"/>
            </a:xfrm>
            <a:custGeom>
              <a:avLst/>
              <a:gdLst/>
              <a:ahLst/>
              <a:rect l="l" t="t" r="r" b="b"/>
              <a:pathLst>
                <a:path w="503" h="172">
                  <a:moveTo>
                    <a:pt x="503" y="133"/>
                  </a:moveTo>
                  <a:cubicBezTo>
                    <a:pt x="438" y="155"/>
                    <a:pt x="443" y="156"/>
                    <a:pt x="327" y="133"/>
                  </a:cubicBezTo>
                  <a:cubicBezTo>
                    <a:pt x="308" y="129"/>
                    <a:pt x="279" y="101"/>
                    <a:pt x="279" y="101"/>
                  </a:cubicBezTo>
                  <a:cubicBezTo>
                    <a:pt x="290" y="69"/>
                    <a:pt x="304" y="63"/>
                    <a:pt x="335" y="53"/>
                  </a:cubicBezTo>
                  <a:cubicBezTo>
                    <a:pt x="373" y="66"/>
                    <a:pt x="378" y="58"/>
                    <a:pt x="351" y="125"/>
                  </a:cubicBezTo>
                  <a:cubicBezTo>
                    <a:pt x="342" y="147"/>
                    <a:pt x="276" y="148"/>
                    <a:pt x="271" y="149"/>
                  </a:cubicBezTo>
                  <a:cubicBezTo>
                    <a:pt x="161" y="142"/>
                    <a:pt x="145" y="172"/>
                    <a:pt x="119" y="93"/>
                  </a:cubicBezTo>
                  <a:cubicBezTo>
                    <a:pt x="126" y="56"/>
                    <a:pt x="117" y="52"/>
                    <a:pt x="151" y="37"/>
                  </a:cubicBezTo>
                  <a:cubicBezTo>
                    <a:pt x="166" y="30"/>
                    <a:pt x="199" y="21"/>
                    <a:pt x="199" y="21"/>
                  </a:cubicBezTo>
                  <a:cubicBezTo>
                    <a:pt x="213" y="62"/>
                    <a:pt x="212" y="93"/>
                    <a:pt x="175" y="117"/>
                  </a:cubicBezTo>
                  <a:cubicBezTo>
                    <a:pt x="18" y="109"/>
                    <a:pt x="0" y="145"/>
                    <a:pt x="15" y="13"/>
                  </a:cubicBezTo>
                  <a:cubicBezTo>
                    <a:pt x="82" y="21"/>
                    <a:pt x="79" y="0"/>
                    <a:pt x="79" y="29"/>
                  </a:cubicBezTo>
                </a:path>
              </a:pathLst>
            </a:custGeom>
            <a:noFill/>
            <a:ln w="284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4938000">
              <a:off x="440640" y="3902040"/>
              <a:ext cx="609480" cy="273240"/>
            </a:xfrm>
            <a:custGeom>
              <a:avLst/>
              <a:gdLst/>
              <a:ahLst/>
              <a:rect l="l" t="t" r="r" b="b"/>
              <a:pathLst>
                <a:path w="503" h="172">
                  <a:moveTo>
                    <a:pt x="503" y="133"/>
                  </a:moveTo>
                  <a:cubicBezTo>
                    <a:pt x="438" y="155"/>
                    <a:pt x="443" y="156"/>
                    <a:pt x="327" y="133"/>
                  </a:cubicBezTo>
                  <a:cubicBezTo>
                    <a:pt x="308" y="129"/>
                    <a:pt x="279" y="101"/>
                    <a:pt x="279" y="101"/>
                  </a:cubicBezTo>
                  <a:cubicBezTo>
                    <a:pt x="290" y="69"/>
                    <a:pt x="304" y="63"/>
                    <a:pt x="335" y="53"/>
                  </a:cubicBezTo>
                  <a:cubicBezTo>
                    <a:pt x="373" y="66"/>
                    <a:pt x="378" y="58"/>
                    <a:pt x="351" y="125"/>
                  </a:cubicBezTo>
                  <a:cubicBezTo>
                    <a:pt x="342" y="147"/>
                    <a:pt x="276" y="148"/>
                    <a:pt x="271" y="149"/>
                  </a:cubicBezTo>
                  <a:cubicBezTo>
                    <a:pt x="161" y="142"/>
                    <a:pt x="145" y="172"/>
                    <a:pt x="119" y="93"/>
                  </a:cubicBezTo>
                  <a:cubicBezTo>
                    <a:pt x="126" y="56"/>
                    <a:pt x="117" y="52"/>
                    <a:pt x="151" y="37"/>
                  </a:cubicBezTo>
                  <a:cubicBezTo>
                    <a:pt x="166" y="30"/>
                    <a:pt x="199" y="21"/>
                    <a:pt x="199" y="21"/>
                  </a:cubicBezTo>
                  <a:cubicBezTo>
                    <a:pt x="213" y="62"/>
                    <a:pt x="212" y="93"/>
                    <a:pt x="175" y="117"/>
                  </a:cubicBezTo>
                  <a:cubicBezTo>
                    <a:pt x="18" y="109"/>
                    <a:pt x="0" y="145"/>
                    <a:pt x="15" y="13"/>
                  </a:cubicBezTo>
                  <a:cubicBezTo>
                    <a:pt x="82" y="21"/>
                    <a:pt x="79" y="0"/>
                    <a:pt x="79" y="29"/>
                  </a:cubicBezTo>
                </a:path>
              </a:pathLst>
            </a:custGeom>
            <a:noFill/>
            <a:ln w="284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6767400">
              <a:off x="669240" y="3901680"/>
              <a:ext cx="609480" cy="273240"/>
            </a:xfrm>
            <a:custGeom>
              <a:avLst/>
              <a:gdLst/>
              <a:ahLst/>
              <a:rect l="l" t="t" r="r" b="b"/>
              <a:pathLst>
                <a:path w="503" h="172">
                  <a:moveTo>
                    <a:pt x="503" y="133"/>
                  </a:moveTo>
                  <a:cubicBezTo>
                    <a:pt x="438" y="155"/>
                    <a:pt x="443" y="156"/>
                    <a:pt x="327" y="133"/>
                  </a:cubicBezTo>
                  <a:cubicBezTo>
                    <a:pt x="308" y="129"/>
                    <a:pt x="279" y="101"/>
                    <a:pt x="279" y="101"/>
                  </a:cubicBezTo>
                  <a:cubicBezTo>
                    <a:pt x="290" y="69"/>
                    <a:pt x="304" y="63"/>
                    <a:pt x="335" y="53"/>
                  </a:cubicBezTo>
                  <a:cubicBezTo>
                    <a:pt x="373" y="66"/>
                    <a:pt x="378" y="58"/>
                    <a:pt x="351" y="125"/>
                  </a:cubicBezTo>
                  <a:cubicBezTo>
                    <a:pt x="342" y="147"/>
                    <a:pt x="276" y="148"/>
                    <a:pt x="271" y="149"/>
                  </a:cubicBezTo>
                  <a:cubicBezTo>
                    <a:pt x="161" y="142"/>
                    <a:pt x="145" y="172"/>
                    <a:pt x="119" y="93"/>
                  </a:cubicBezTo>
                  <a:cubicBezTo>
                    <a:pt x="126" y="56"/>
                    <a:pt x="117" y="52"/>
                    <a:pt x="151" y="37"/>
                  </a:cubicBezTo>
                  <a:cubicBezTo>
                    <a:pt x="166" y="30"/>
                    <a:pt x="199" y="21"/>
                    <a:pt x="199" y="21"/>
                  </a:cubicBezTo>
                  <a:cubicBezTo>
                    <a:pt x="213" y="62"/>
                    <a:pt x="212" y="93"/>
                    <a:pt x="175" y="117"/>
                  </a:cubicBezTo>
                  <a:cubicBezTo>
                    <a:pt x="18" y="109"/>
                    <a:pt x="0" y="145"/>
                    <a:pt x="15" y="13"/>
                  </a:cubicBezTo>
                  <a:cubicBezTo>
                    <a:pt x="82" y="21"/>
                    <a:pt x="79" y="0"/>
                    <a:pt x="79" y="29"/>
                  </a:cubicBezTo>
                </a:path>
              </a:pathLst>
            </a:custGeom>
            <a:noFill/>
            <a:ln w="284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399240" y="5264640"/>
              <a:ext cx="686520" cy="632880"/>
              <a:chOff x="399240" y="5264640"/>
              <a:chExt cx="686520" cy="632880"/>
            </a:xfrm>
          </p:grpSpPr>
          <p:sp>
            <p:nvSpPr>
              <p:cNvPr id="370" name=""/>
              <p:cNvSpPr/>
              <p:nvPr/>
            </p:nvSpPr>
            <p:spPr>
              <a:xfrm flipH="1" rot="20713800">
                <a:off x="638640" y="5558760"/>
                <a:ext cx="304200" cy="304920"/>
              </a:xfrm>
              <a:prstGeom prst="sun">
                <a:avLst>
                  <a:gd name="adj" fmla="val 17189"/>
                </a:avLst>
              </a:prstGeom>
              <a:solidFill>
                <a:srgbClr val="edc32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rot="9913800">
                <a:off x="437400" y="5335920"/>
                <a:ext cx="609480" cy="381240"/>
              </a:xfrm>
              <a:custGeom>
                <a:avLst/>
                <a:gdLst>
                  <a:gd name="textAreaLeft" fmla="*/ 147960 w 609480"/>
                  <a:gd name="textAreaRight" fmla="*/ 461520 w 609480"/>
                  <a:gd name="textAreaTop" fmla="*/ 92520 h 381240"/>
                  <a:gd name="textAreaBottom" fmla="*/ 2887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00" y="21600"/>
                    </a:lnTo>
                    <a:lnTo>
                      <a:pt x="6300" y="21600"/>
                    </a:lnTo>
                    <a:close/>
                  </a:path>
                </a:pathLst>
              </a:custGeom>
              <a:solidFill>
                <a:srgbClr val="edc32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flipH="1">
              <a:off x="304920" y="4953240"/>
              <a:ext cx="838080" cy="3808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838080" y="5105520"/>
              <a:ext cx="1526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32800" y="5105520"/>
              <a:ext cx="15228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-408600" y="5813640"/>
            <a:ext cx="9782640" cy="1301760"/>
            <a:chOff x="-408600" y="5813640"/>
            <a:chExt cx="9782640" cy="1301760"/>
          </a:xfrm>
        </p:grpSpPr>
        <p:sp>
          <p:nvSpPr>
            <p:cNvPr id="376" name=""/>
            <p:cNvSpPr/>
            <p:nvPr/>
          </p:nvSpPr>
          <p:spPr>
            <a:xfrm rot="208800">
              <a:off x="-380520" y="5943600"/>
              <a:ext cx="4317840" cy="1041480"/>
            </a:xfrm>
            <a:custGeom>
              <a:avLst/>
              <a:gdLst/>
              <a:ahLst/>
              <a:rect l="l" t="t" r="r" b="b"/>
              <a:pathLst>
                <a:path w="2720" h="656">
                  <a:moveTo>
                    <a:pt x="328" y="488"/>
                  </a:moveTo>
                  <a:cubicBezTo>
                    <a:pt x="324" y="372"/>
                    <a:pt x="320" y="256"/>
                    <a:pt x="328" y="248"/>
                  </a:cubicBezTo>
                  <a:cubicBezTo>
                    <a:pt x="336" y="240"/>
                    <a:pt x="360" y="448"/>
                    <a:pt x="376" y="440"/>
                  </a:cubicBezTo>
                  <a:cubicBezTo>
                    <a:pt x="392" y="432"/>
                    <a:pt x="416" y="192"/>
                    <a:pt x="424" y="200"/>
                  </a:cubicBezTo>
                  <a:cubicBezTo>
                    <a:pt x="432" y="208"/>
                    <a:pt x="408" y="456"/>
                    <a:pt x="424" y="488"/>
                  </a:cubicBezTo>
                  <a:cubicBezTo>
                    <a:pt x="440" y="520"/>
                    <a:pt x="496" y="400"/>
                    <a:pt x="520" y="392"/>
                  </a:cubicBezTo>
                  <a:cubicBezTo>
                    <a:pt x="544" y="384"/>
                    <a:pt x="552" y="472"/>
                    <a:pt x="568" y="440"/>
                  </a:cubicBezTo>
                  <a:cubicBezTo>
                    <a:pt x="584" y="408"/>
                    <a:pt x="592" y="192"/>
                    <a:pt x="616" y="200"/>
                  </a:cubicBezTo>
                  <a:cubicBezTo>
                    <a:pt x="640" y="208"/>
                    <a:pt x="672" y="488"/>
                    <a:pt x="712" y="488"/>
                  </a:cubicBezTo>
                  <a:cubicBezTo>
                    <a:pt x="752" y="488"/>
                    <a:pt x="824" y="208"/>
                    <a:pt x="856" y="200"/>
                  </a:cubicBezTo>
                  <a:cubicBezTo>
                    <a:pt x="888" y="192"/>
                    <a:pt x="888" y="432"/>
                    <a:pt x="904" y="440"/>
                  </a:cubicBezTo>
                  <a:cubicBezTo>
                    <a:pt x="920" y="448"/>
                    <a:pt x="944" y="256"/>
                    <a:pt x="952" y="248"/>
                  </a:cubicBezTo>
                  <a:cubicBezTo>
                    <a:pt x="960" y="240"/>
                    <a:pt x="936" y="432"/>
                    <a:pt x="952" y="392"/>
                  </a:cubicBezTo>
                  <a:cubicBezTo>
                    <a:pt x="968" y="352"/>
                    <a:pt x="1032" y="0"/>
                    <a:pt x="1048" y="8"/>
                  </a:cubicBezTo>
                  <a:cubicBezTo>
                    <a:pt x="1064" y="16"/>
                    <a:pt x="1032" y="392"/>
                    <a:pt x="1048" y="440"/>
                  </a:cubicBezTo>
                  <a:cubicBezTo>
                    <a:pt x="1064" y="488"/>
                    <a:pt x="1128" y="304"/>
                    <a:pt x="1144" y="296"/>
                  </a:cubicBezTo>
                  <a:cubicBezTo>
                    <a:pt x="1160" y="288"/>
                    <a:pt x="1136" y="392"/>
                    <a:pt x="1144" y="392"/>
                  </a:cubicBezTo>
                  <a:cubicBezTo>
                    <a:pt x="1152" y="392"/>
                    <a:pt x="1184" y="288"/>
                    <a:pt x="1192" y="296"/>
                  </a:cubicBezTo>
                  <a:cubicBezTo>
                    <a:pt x="1200" y="304"/>
                    <a:pt x="1168" y="464"/>
                    <a:pt x="1192" y="440"/>
                  </a:cubicBezTo>
                  <a:cubicBezTo>
                    <a:pt x="1216" y="416"/>
                    <a:pt x="1312" y="152"/>
                    <a:pt x="1336" y="152"/>
                  </a:cubicBezTo>
                  <a:cubicBezTo>
                    <a:pt x="1360" y="152"/>
                    <a:pt x="1328" y="464"/>
                    <a:pt x="1336" y="440"/>
                  </a:cubicBezTo>
                  <a:cubicBezTo>
                    <a:pt x="1344" y="416"/>
                    <a:pt x="1376" y="16"/>
                    <a:pt x="1384" y="8"/>
                  </a:cubicBezTo>
                  <a:cubicBezTo>
                    <a:pt x="1392" y="0"/>
                    <a:pt x="1360" y="392"/>
                    <a:pt x="1384" y="392"/>
                  </a:cubicBezTo>
                  <a:cubicBezTo>
                    <a:pt x="1408" y="392"/>
                    <a:pt x="1504" y="8"/>
                    <a:pt x="1528" y="8"/>
                  </a:cubicBezTo>
                  <a:cubicBezTo>
                    <a:pt x="1552" y="8"/>
                    <a:pt x="1512" y="352"/>
                    <a:pt x="1528" y="392"/>
                  </a:cubicBezTo>
                  <a:cubicBezTo>
                    <a:pt x="1544" y="432"/>
                    <a:pt x="1600" y="288"/>
                    <a:pt x="1624" y="248"/>
                  </a:cubicBezTo>
                  <a:cubicBezTo>
                    <a:pt x="1648" y="208"/>
                    <a:pt x="1656" y="128"/>
                    <a:pt x="1672" y="152"/>
                  </a:cubicBezTo>
                  <a:cubicBezTo>
                    <a:pt x="1688" y="176"/>
                    <a:pt x="1696" y="400"/>
                    <a:pt x="1720" y="392"/>
                  </a:cubicBezTo>
                  <a:cubicBezTo>
                    <a:pt x="1744" y="384"/>
                    <a:pt x="1800" y="104"/>
                    <a:pt x="1816" y="104"/>
                  </a:cubicBezTo>
                  <a:cubicBezTo>
                    <a:pt x="1832" y="104"/>
                    <a:pt x="1792" y="384"/>
                    <a:pt x="1816" y="392"/>
                  </a:cubicBezTo>
                  <a:cubicBezTo>
                    <a:pt x="1840" y="400"/>
                    <a:pt x="1936" y="152"/>
                    <a:pt x="1960" y="152"/>
                  </a:cubicBezTo>
                  <a:cubicBezTo>
                    <a:pt x="1984" y="152"/>
                    <a:pt x="1928" y="400"/>
                    <a:pt x="1960" y="392"/>
                  </a:cubicBezTo>
                  <a:cubicBezTo>
                    <a:pt x="1992" y="384"/>
                    <a:pt x="2120" y="96"/>
                    <a:pt x="2152" y="104"/>
                  </a:cubicBezTo>
                  <a:cubicBezTo>
                    <a:pt x="2184" y="112"/>
                    <a:pt x="2128" y="448"/>
                    <a:pt x="2152" y="440"/>
                  </a:cubicBezTo>
                  <a:cubicBezTo>
                    <a:pt x="2176" y="432"/>
                    <a:pt x="2256" y="48"/>
                    <a:pt x="2296" y="56"/>
                  </a:cubicBezTo>
                  <a:cubicBezTo>
                    <a:pt x="2336" y="64"/>
                    <a:pt x="2720" y="392"/>
                    <a:pt x="2392" y="488"/>
                  </a:cubicBezTo>
                  <a:cubicBezTo>
                    <a:pt x="2064" y="584"/>
                    <a:pt x="656" y="656"/>
                    <a:pt x="328" y="632"/>
                  </a:cubicBezTo>
                  <a:cubicBezTo>
                    <a:pt x="0" y="608"/>
                    <a:pt x="352" y="416"/>
                    <a:pt x="424" y="344"/>
                  </a:cubicBezTo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2791440" y="5813640"/>
              <a:ext cx="6582600" cy="1301760"/>
              <a:chOff x="2791440" y="5813640"/>
              <a:chExt cx="6582600" cy="1301760"/>
            </a:xfrm>
          </p:grpSpPr>
          <p:sp>
            <p:nvSpPr>
              <p:cNvPr id="378" name=""/>
              <p:cNvSpPr/>
              <p:nvPr/>
            </p:nvSpPr>
            <p:spPr>
              <a:xfrm rot="208800">
                <a:off x="2819160" y="5943600"/>
                <a:ext cx="4317840" cy="1041480"/>
              </a:xfrm>
              <a:custGeom>
                <a:avLst/>
                <a:gdLst/>
                <a:ahLst/>
                <a:rect l="l" t="t" r="r" b="b"/>
                <a:pathLst>
                  <a:path w="2720" h="656">
                    <a:moveTo>
                      <a:pt x="328" y="488"/>
                    </a:moveTo>
                    <a:cubicBezTo>
                      <a:pt x="324" y="372"/>
                      <a:pt x="320" y="256"/>
                      <a:pt x="328" y="248"/>
                    </a:cubicBezTo>
                    <a:cubicBezTo>
                      <a:pt x="336" y="240"/>
                      <a:pt x="360" y="448"/>
                      <a:pt x="376" y="440"/>
                    </a:cubicBezTo>
                    <a:cubicBezTo>
                      <a:pt x="392" y="432"/>
                      <a:pt x="416" y="192"/>
                      <a:pt x="424" y="200"/>
                    </a:cubicBezTo>
                    <a:cubicBezTo>
                      <a:pt x="432" y="208"/>
                      <a:pt x="408" y="456"/>
                      <a:pt x="424" y="488"/>
                    </a:cubicBezTo>
                    <a:cubicBezTo>
                      <a:pt x="440" y="520"/>
                      <a:pt x="496" y="400"/>
                      <a:pt x="520" y="392"/>
                    </a:cubicBezTo>
                    <a:cubicBezTo>
                      <a:pt x="544" y="384"/>
                      <a:pt x="552" y="472"/>
                      <a:pt x="568" y="440"/>
                    </a:cubicBezTo>
                    <a:cubicBezTo>
                      <a:pt x="584" y="408"/>
                      <a:pt x="592" y="192"/>
                      <a:pt x="616" y="200"/>
                    </a:cubicBezTo>
                    <a:cubicBezTo>
                      <a:pt x="640" y="208"/>
                      <a:pt x="672" y="488"/>
                      <a:pt x="712" y="488"/>
                    </a:cubicBezTo>
                    <a:cubicBezTo>
                      <a:pt x="752" y="488"/>
                      <a:pt x="824" y="208"/>
                      <a:pt x="856" y="200"/>
                    </a:cubicBezTo>
                    <a:cubicBezTo>
                      <a:pt x="888" y="192"/>
                      <a:pt x="888" y="432"/>
                      <a:pt x="904" y="440"/>
                    </a:cubicBezTo>
                    <a:cubicBezTo>
                      <a:pt x="920" y="448"/>
                      <a:pt x="944" y="256"/>
                      <a:pt x="952" y="248"/>
                    </a:cubicBezTo>
                    <a:cubicBezTo>
                      <a:pt x="960" y="240"/>
                      <a:pt x="936" y="432"/>
                      <a:pt x="952" y="392"/>
                    </a:cubicBezTo>
                    <a:cubicBezTo>
                      <a:pt x="968" y="352"/>
                      <a:pt x="1032" y="0"/>
                      <a:pt x="1048" y="8"/>
                    </a:cubicBezTo>
                    <a:cubicBezTo>
                      <a:pt x="1064" y="16"/>
                      <a:pt x="1032" y="392"/>
                      <a:pt x="1048" y="440"/>
                    </a:cubicBezTo>
                    <a:cubicBezTo>
                      <a:pt x="1064" y="488"/>
                      <a:pt x="1128" y="304"/>
                      <a:pt x="1144" y="296"/>
                    </a:cubicBezTo>
                    <a:cubicBezTo>
                      <a:pt x="1160" y="288"/>
                      <a:pt x="1136" y="392"/>
                      <a:pt x="1144" y="392"/>
                    </a:cubicBezTo>
                    <a:cubicBezTo>
                      <a:pt x="1152" y="392"/>
                      <a:pt x="1184" y="288"/>
                      <a:pt x="1192" y="296"/>
                    </a:cubicBezTo>
                    <a:cubicBezTo>
                      <a:pt x="1200" y="304"/>
                      <a:pt x="1168" y="464"/>
                      <a:pt x="1192" y="440"/>
                    </a:cubicBezTo>
                    <a:cubicBezTo>
                      <a:pt x="1216" y="416"/>
                      <a:pt x="1312" y="152"/>
                      <a:pt x="1336" y="152"/>
                    </a:cubicBezTo>
                    <a:cubicBezTo>
                      <a:pt x="1360" y="152"/>
                      <a:pt x="1328" y="464"/>
                      <a:pt x="1336" y="440"/>
                    </a:cubicBezTo>
                    <a:cubicBezTo>
                      <a:pt x="1344" y="416"/>
                      <a:pt x="1376" y="16"/>
                      <a:pt x="1384" y="8"/>
                    </a:cubicBezTo>
                    <a:cubicBezTo>
                      <a:pt x="1392" y="0"/>
                      <a:pt x="1360" y="392"/>
                      <a:pt x="1384" y="392"/>
                    </a:cubicBezTo>
                    <a:cubicBezTo>
                      <a:pt x="1408" y="392"/>
                      <a:pt x="1504" y="8"/>
                      <a:pt x="1528" y="8"/>
                    </a:cubicBezTo>
                    <a:cubicBezTo>
                      <a:pt x="1552" y="8"/>
                      <a:pt x="1512" y="352"/>
                      <a:pt x="1528" y="392"/>
                    </a:cubicBezTo>
                    <a:cubicBezTo>
                      <a:pt x="1544" y="432"/>
                      <a:pt x="1600" y="288"/>
                      <a:pt x="1624" y="248"/>
                    </a:cubicBezTo>
                    <a:cubicBezTo>
                      <a:pt x="1648" y="208"/>
                      <a:pt x="1656" y="128"/>
                      <a:pt x="1672" y="152"/>
                    </a:cubicBezTo>
                    <a:cubicBezTo>
                      <a:pt x="1688" y="176"/>
                      <a:pt x="1696" y="400"/>
                      <a:pt x="1720" y="392"/>
                    </a:cubicBezTo>
                    <a:cubicBezTo>
                      <a:pt x="1744" y="384"/>
                      <a:pt x="1800" y="104"/>
                      <a:pt x="1816" y="104"/>
                    </a:cubicBezTo>
                    <a:cubicBezTo>
                      <a:pt x="1832" y="104"/>
                      <a:pt x="1792" y="384"/>
                      <a:pt x="1816" y="392"/>
                    </a:cubicBezTo>
                    <a:cubicBezTo>
                      <a:pt x="1840" y="400"/>
                      <a:pt x="1936" y="152"/>
                      <a:pt x="1960" y="152"/>
                    </a:cubicBezTo>
                    <a:cubicBezTo>
                      <a:pt x="1984" y="152"/>
                      <a:pt x="1928" y="400"/>
                      <a:pt x="1960" y="392"/>
                    </a:cubicBezTo>
                    <a:cubicBezTo>
                      <a:pt x="1992" y="384"/>
                      <a:pt x="2120" y="96"/>
                      <a:pt x="2152" y="104"/>
                    </a:cubicBezTo>
                    <a:cubicBezTo>
                      <a:pt x="2184" y="112"/>
                      <a:pt x="2128" y="448"/>
                      <a:pt x="2152" y="440"/>
                    </a:cubicBezTo>
                    <a:cubicBezTo>
                      <a:pt x="2176" y="432"/>
                      <a:pt x="2256" y="48"/>
                      <a:pt x="2296" y="56"/>
                    </a:cubicBezTo>
                    <a:cubicBezTo>
                      <a:pt x="2336" y="64"/>
                      <a:pt x="2720" y="392"/>
                      <a:pt x="2392" y="488"/>
                    </a:cubicBezTo>
                    <a:cubicBezTo>
                      <a:pt x="2064" y="584"/>
                      <a:pt x="656" y="656"/>
                      <a:pt x="328" y="632"/>
                    </a:cubicBezTo>
                    <a:cubicBezTo>
                      <a:pt x="0" y="608"/>
                      <a:pt x="352" y="416"/>
                      <a:pt x="424" y="344"/>
                    </a:cubicBezTo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8800">
                <a:off x="5028840" y="5943600"/>
                <a:ext cx="4317480" cy="1041480"/>
              </a:xfrm>
              <a:custGeom>
                <a:avLst/>
                <a:gdLst/>
                <a:ahLst/>
                <a:rect l="l" t="t" r="r" b="b"/>
                <a:pathLst>
                  <a:path w="2720" h="656">
                    <a:moveTo>
                      <a:pt x="328" y="488"/>
                    </a:moveTo>
                    <a:cubicBezTo>
                      <a:pt x="324" y="372"/>
                      <a:pt x="320" y="256"/>
                      <a:pt x="328" y="248"/>
                    </a:cubicBezTo>
                    <a:cubicBezTo>
                      <a:pt x="336" y="240"/>
                      <a:pt x="360" y="448"/>
                      <a:pt x="376" y="440"/>
                    </a:cubicBezTo>
                    <a:cubicBezTo>
                      <a:pt x="392" y="432"/>
                      <a:pt x="416" y="192"/>
                      <a:pt x="424" y="200"/>
                    </a:cubicBezTo>
                    <a:cubicBezTo>
                      <a:pt x="432" y="208"/>
                      <a:pt x="408" y="456"/>
                      <a:pt x="424" y="488"/>
                    </a:cubicBezTo>
                    <a:cubicBezTo>
                      <a:pt x="440" y="520"/>
                      <a:pt x="496" y="400"/>
                      <a:pt x="520" y="392"/>
                    </a:cubicBezTo>
                    <a:cubicBezTo>
                      <a:pt x="544" y="384"/>
                      <a:pt x="552" y="472"/>
                      <a:pt x="568" y="440"/>
                    </a:cubicBezTo>
                    <a:cubicBezTo>
                      <a:pt x="584" y="408"/>
                      <a:pt x="592" y="192"/>
                      <a:pt x="616" y="200"/>
                    </a:cubicBezTo>
                    <a:cubicBezTo>
                      <a:pt x="640" y="208"/>
                      <a:pt x="672" y="488"/>
                      <a:pt x="712" y="488"/>
                    </a:cubicBezTo>
                    <a:cubicBezTo>
                      <a:pt x="752" y="488"/>
                      <a:pt x="824" y="208"/>
                      <a:pt x="856" y="200"/>
                    </a:cubicBezTo>
                    <a:cubicBezTo>
                      <a:pt x="888" y="192"/>
                      <a:pt x="888" y="432"/>
                      <a:pt x="904" y="440"/>
                    </a:cubicBezTo>
                    <a:cubicBezTo>
                      <a:pt x="920" y="448"/>
                      <a:pt x="944" y="256"/>
                      <a:pt x="952" y="248"/>
                    </a:cubicBezTo>
                    <a:cubicBezTo>
                      <a:pt x="960" y="240"/>
                      <a:pt x="936" y="432"/>
                      <a:pt x="952" y="392"/>
                    </a:cubicBezTo>
                    <a:cubicBezTo>
                      <a:pt x="968" y="352"/>
                      <a:pt x="1032" y="0"/>
                      <a:pt x="1048" y="8"/>
                    </a:cubicBezTo>
                    <a:cubicBezTo>
                      <a:pt x="1064" y="16"/>
                      <a:pt x="1032" y="392"/>
                      <a:pt x="1048" y="440"/>
                    </a:cubicBezTo>
                    <a:cubicBezTo>
                      <a:pt x="1064" y="488"/>
                      <a:pt x="1128" y="304"/>
                      <a:pt x="1144" y="296"/>
                    </a:cubicBezTo>
                    <a:cubicBezTo>
                      <a:pt x="1160" y="288"/>
                      <a:pt x="1136" y="392"/>
                      <a:pt x="1144" y="392"/>
                    </a:cubicBezTo>
                    <a:cubicBezTo>
                      <a:pt x="1152" y="392"/>
                      <a:pt x="1184" y="288"/>
                      <a:pt x="1192" y="296"/>
                    </a:cubicBezTo>
                    <a:cubicBezTo>
                      <a:pt x="1200" y="304"/>
                      <a:pt x="1168" y="464"/>
                      <a:pt x="1192" y="440"/>
                    </a:cubicBezTo>
                    <a:cubicBezTo>
                      <a:pt x="1216" y="416"/>
                      <a:pt x="1312" y="152"/>
                      <a:pt x="1336" y="152"/>
                    </a:cubicBezTo>
                    <a:cubicBezTo>
                      <a:pt x="1360" y="152"/>
                      <a:pt x="1328" y="464"/>
                      <a:pt x="1336" y="440"/>
                    </a:cubicBezTo>
                    <a:cubicBezTo>
                      <a:pt x="1344" y="416"/>
                      <a:pt x="1376" y="16"/>
                      <a:pt x="1384" y="8"/>
                    </a:cubicBezTo>
                    <a:cubicBezTo>
                      <a:pt x="1392" y="0"/>
                      <a:pt x="1360" y="392"/>
                      <a:pt x="1384" y="392"/>
                    </a:cubicBezTo>
                    <a:cubicBezTo>
                      <a:pt x="1408" y="392"/>
                      <a:pt x="1504" y="8"/>
                      <a:pt x="1528" y="8"/>
                    </a:cubicBezTo>
                    <a:cubicBezTo>
                      <a:pt x="1552" y="8"/>
                      <a:pt x="1512" y="352"/>
                      <a:pt x="1528" y="392"/>
                    </a:cubicBezTo>
                    <a:cubicBezTo>
                      <a:pt x="1544" y="432"/>
                      <a:pt x="1600" y="288"/>
                      <a:pt x="1624" y="248"/>
                    </a:cubicBezTo>
                    <a:cubicBezTo>
                      <a:pt x="1648" y="208"/>
                      <a:pt x="1656" y="128"/>
                      <a:pt x="1672" y="152"/>
                    </a:cubicBezTo>
                    <a:cubicBezTo>
                      <a:pt x="1688" y="176"/>
                      <a:pt x="1696" y="400"/>
                      <a:pt x="1720" y="392"/>
                    </a:cubicBezTo>
                    <a:cubicBezTo>
                      <a:pt x="1744" y="384"/>
                      <a:pt x="1800" y="104"/>
                      <a:pt x="1816" y="104"/>
                    </a:cubicBezTo>
                    <a:cubicBezTo>
                      <a:pt x="1832" y="104"/>
                      <a:pt x="1792" y="384"/>
                      <a:pt x="1816" y="392"/>
                    </a:cubicBezTo>
                    <a:cubicBezTo>
                      <a:pt x="1840" y="400"/>
                      <a:pt x="1936" y="152"/>
                      <a:pt x="1960" y="152"/>
                    </a:cubicBezTo>
                    <a:cubicBezTo>
                      <a:pt x="1984" y="152"/>
                      <a:pt x="1928" y="400"/>
                      <a:pt x="1960" y="392"/>
                    </a:cubicBezTo>
                    <a:cubicBezTo>
                      <a:pt x="1992" y="384"/>
                      <a:pt x="2120" y="96"/>
                      <a:pt x="2152" y="104"/>
                    </a:cubicBezTo>
                    <a:cubicBezTo>
                      <a:pt x="2184" y="112"/>
                      <a:pt x="2128" y="448"/>
                      <a:pt x="2152" y="440"/>
                    </a:cubicBezTo>
                    <a:cubicBezTo>
                      <a:pt x="2176" y="432"/>
                      <a:pt x="2256" y="48"/>
                      <a:pt x="2296" y="56"/>
                    </a:cubicBezTo>
                    <a:cubicBezTo>
                      <a:pt x="2336" y="64"/>
                      <a:pt x="2720" y="392"/>
                      <a:pt x="2392" y="488"/>
                    </a:cubicBezTo>
                    <a:cubicBezTo>
                      <a:pt x="2064" y="584"/>
                      <a:pt x="656" y="656"/>
                      <a:pt x="328" y="632"/>
                    </a:cubicBezTo>
                    <a:cubicBezTo>
                      <a:pt x="0" y="608"/>
                      <a:pt x="352" y="416"/>
                      <a:pt x="424" y="344"/>
                    </a:cubicBezTo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 rot="10800000">
            <a:off x="3962160" y="151920"/>
            <a:ext cx="2895480" cy="1524240"/>
          </a:xfrm>
          <a:prstGeom prst="cloudCallout">
            <a:avLst>
              <a:gd name="adj1" fmla="val 50875"/>
              <a:gd name="adj2" fmla="val -17083"/>
            </a:avLst>
          </a:prstGeom>
          <a:solidFill>
            <a:srgbClr val="e1f1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0800000">
            <a:off x="609120" y="0"/>
            <a:ext cx="4038840" cy="1905120"/>
          </a:xfrm>
          <a:prstGeom prst="cloudCallout">
            <a:avLst>
              <a:gd name="adj1" fmla="val 41703"/>
              <a:gd name="adj2" fmla="val -26000"/>
            </a:avLst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16800" y="-355680"/>
            <a:ext cx="3453480" cy="3301920"/>
            <a:chOff x="-316800" y="-355680"/>
            <a:chExt cx="3453480" cy="3301920"/>
          </a:xfrm>
        </p:grpSpPr>
        <p:sp>
          <p:nvSpPr>
            <p:cNvPr id="383" name=""/>
            <p:cNvSpPr/>
            <p:nvPr/>
          </p:nvSpPr>
          <p:spPr>
            <a:xfrm rot="20581200">
              <a:off x="0" y="0"/>
              <a:ext cx="2819520" cy="2590920"/>
            </a:xfrm>
            <a:prstGeom prst="sun">
              <a:avLst>
                <a:gd name="adj" fmla="val 38625"/>
              </a:avLst>
            </a:prstGeom>
            <a:solidFill>
              <a:srgbClr val="fcfc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143000" y="990720"/>
              <a:ext cx="304920" cy="304560"/>
              <a:chOff x="1143000" y="990720"/>
              <a:chExt cx="304920" cy="304560"/>
            </a:xfrm>
          </p:grpSpPr>
          <p:sp>
            <p:nvSpPr>
              <p:cNvPr id="385" name=""/>
              <p:cNvSpPr/>
              <p:nvPr/>
            </p:nvSpPr>
            <p:spPr>
              <a:xfrm>
                <a:off x="1143000" y="990720"/>
                <a:ext cx="304920" cy="304560"/>
              </a:xfrm>
              <a:prstGeom prst="ellipse">
                <a:avLst/>
              </a:prstGeom>
              <a:solidFill>
                <a:srgbClr val="fe75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219320" y="1066680"/>
                <a:ext cx="22860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219320" y="114264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295280" y="12189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447920" y="990720"/>
              <a:ext cx="304560" cy="304560"/>
              <a:chOff x="1447920" y="990720"/>
              <a:chExt cx="304560" cy="304560"/>
            </a:xfrm>
          </p:grpSpPr>
          <p:sp>
            <p:nvSpPr>
              <p:cNvPr id="390" name=""/>
              <p:cNvSpPr/>
              <p:nvPr/>
            </p:nvSpPr>
            <p:spPr>
              <a:xfrm>
                <a:off x="1447920" y="990720"/>
                <a:ext cx="304560" cy="304560"/>
              </a:xfrm>
              <a:prstGeom prst="ellipse">
                <a:avLst/>
              </a:prstGeom>
              <a:solidFill>
                <a:srgbClr val="fe75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523880" y="1066680"/>
                <a:ext cx="2282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23880" y="1142640"/>
                <a:ext cx="15192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99840" y="1218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 rot="16200000">
              <a:off x="1333440" y="1256760"/>
              <a:ext cx="22860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00" y="969"/>
                    <a:pt x="5400" y="5080"/>
                    <a:pt x="5400" y="10800"/>
                  </a:cubicBezTo>
                  <a:cubicBezTo>
                    <a:pt x="5400" y="16520"/>
                    <a:pt x="13500" y="206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3d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450"/>
                            </p:stCondLst>
                            <p:childTnLst>
                              <p:par>
                                <p:cTn id="1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950"/>
                            </p:stCondLst>
                            <p:childTnLst>
                              <p:par>
                                <p:cTn id="1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95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45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95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450"/>
                            </p:stCondLst>
                            <p:childTnLst>
                              <p:par>
                                <p:cTn id="1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85185E-006 C 0.01355 -0.01667 0.02726 -0.03334 0.03872 -0.03449 C 0.05018 -0.03565 0.06129 0.00277 0.06927 -0.00648 C 0.07709 -0.01574 0.07813 -0.09815 0.08542 -0.09028 C 0.09271 -0.08241 0.09948 0.04051 0.11285 0.04074 C 0.12605 0.04097 0.15348 -0.08542 0.16615 -0.0882 C 0.17882 -0.09098 0.17657 0.0243 0.18872 0.02361 C 0.20087 0.02291 0.229 -0.09283 0.23872 -0.0926 C 0.24844 -0.09236 0.23941 0.03078 0.2467 0.02569 C 0.254 0.0206 0.27361 -0.12014 0.28212 -0.12269 C 0.29045 -0.12523 0.29132 -0.01158 0.29809 0.01065 C 0.30521 0.03287 0.31407 0.02523 0.32414 0.01065 C 0.33403 -0.00394 0.34861 -0.08056 0.35799 -0.07732 C 0.36736 -0.07408 0.37761 0.02037 0.38056 0.03009 E">
                                      <p:cBhvr>
                                        <p:cTn id="176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4 0.13565 C -0.02361 0.10231 -0.02031 0.06898 -0.02517 0.05185 C -0.03003 0.03472 -0.04878 0.01875 -0.05573 0.03241 C -0.06267 0.04606 -0.05972 0.12361 -0.06701 0.13356 C -0.07431 0.14352 -0.09358 0.10972 -0.09931 0.09259 C -0.10503 0.07546 -0.09635 0.04352 -0.10087 0.03032 C -0.10538 0.01713 -0.11979 -0.00417 -0.12674 0.01296 C -0.13368 0.03009 -0.13403 0.11782 -0.14288 0.13356 C -0.15174 0.1493 -0.17604 0.12662 -0.17986 0.10764 C -0.18368 0.08866 -0.16441 0.03958 -0.16545 0.01944 C -0.16649 -0.000699999999999999 -0.17622 -0.02778 -0.18646 -0.01273 C -0.1967 0.00231 -0.21337 0.08264 -0.22674 0.10995 C -0.2401 0.13727 -0.26441 0.16018 -0.26701 0.15092 C -0.26962 0.14143 -0.24444 0.07731 -0.24288 0.05393 C -0.24132 0.03055 -0.24097 0.00254 -0.25729 0.01088 C -0.27361 0.01921 -0.32118 0.08241 -0.34115 0.10347 C -0.36111 0.12453 -0.3684 0.14467 -0.37674 0.13773 C -0.38507 0.13078 -0.38663 0.07569 -0.39115 0.0625 C -0.39566 0.0493 -0.4 0.0537 -0.40417 0.05833 E">
                                      <p:cBhvr>
                                        <p:cTn id="17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тя</cp:lastModifiedBy>
  <dcterms:modified xsi:type="dcterms:W3CDTF">2010-01-24T17:56:1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